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DA5AD-6F2E-419B-8477-6DE935A5C0A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9EA08-54F3-4B2F-9A8A-2972211146EB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78BEC-7584-4CE7-8BB7-6A062C46AFB5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CAFB-00A8-4DAD-B3B9-F7E3528F6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FC33-0F21-4CE2-B044-F276C52E1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542E-EC99-4192-915A-F121D5348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DB65-D1B0-48BA-87CC-5BAEE1AA6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B8D2-E15A-49B0-8E8B-AE7BFE308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970A-A524-4F2C-B3C7-76EEB7FDF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C548-15FD-45BB-B6AB-B5A9DFF4D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2A05-ED2C-4F3E-B6C9-4229CB7FC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C7EE-E285-428B-AF37-5147E12AB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4FEC-E698-480A-A676-9A7022342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4975-3E00-45CB-8F81-E97C1BA9A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31DE-92FA-4EF8-9424-438BA17C8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69747-CA6E-482C-BA54-2F597AFA2E91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4FAE2-0F14-4059-A4E4-0C1D2D26A711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www.planalto.gov.br/ccivil_03/Leis/L5194.htm" TargetMode="External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s://pt.surveymonkey.com/mp/sample-size/" TargetMode="External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topo_saoMateus"/>
          <p:cNvPicPr/>
          <p:nvPr/>
        </p:nvPicPr>
        <p:blipFill>
          <a:blip r:embed="rId1"/>
          <a:stretch/>
        </p:blipFill>
        <p:spPr>
          <a:xfrm>
            <a:off x="179280" y="236520"/>
            <a:ext cx="8715600" cy="110484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o 3"/>
          <p:cNvGrpSpPr/>
          <p:nvPr/>
        </p:nvGrpSpPr>
        <p:grpSpPr>
          <a:xfrm>
            <a:off x="31680" y="6093000"/>
            <a:ext cx="9144000" cy="792000"/>
            <a:chOff x="31680" y="6093000"/>
            <a:chExt cx="9144000" cy="792000"/>
          </a:xfrm>
        </p:grpSpPr>
        <p:sp>
          <p:nvSpPr>
            <p:cNvPr id="50" name="Retângulo com Único Canto Aparado e Arredondado 4"/>
            <p:cNvSpPr/>
            <p:nvPr/>
          </p:nvSpPr>
          <p:spPr>
            <a:xfrm>
              <a:off x="31680" y="6093000"/>
              <a:ext cx="9144000" cy="768240"/>
            </a:xfrm>
            <a:custGeom>
              <a:avLst/>
              <a:gdLst/>
              <a:ahLst/>
              <a:rect l="l" t="t" r="r" b="b"/>
              <a:pathLst>
                <a:path w="9144000" h="907964">
                  <a:moveTo>
                    <a:pt x="151330" y="0"/>
                  </a:moveTo>
                  <a:lnTo>
                    <a:pt x="8992670" y="0"/>
                  </a:lnTo>
                  <a:lnTo>
                    <a:pt x="9144000" y="151330"/>
                  </a:lnTo>
                  <a:lnTo>
                    <a:pt x="9144000" y="907964"/>
                  </a:lnTo>
                  <a:lnTo>
                    <a:pt x="0" y="907964"/>
                  </a:lnTo>
                  <a:lnTo>
                    <a:pt x="0" y="151330"/>
                  </a:lnTo>
                  <a:cubicBezTo>
                    <a:pt x="0" y="67753"/>
                    <a:pt x="67753" y="0"/>
                    <a:pt x="151330" y="0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tângulo com Único Canto Aparado e Arredondado 5"/>
            <p:cNvSpPr/>
            <p:nvPr/>
          </p:nvSpPr>
          <p:spPr>
            <a:xfrm flipH="1">
              <a:off x="6654960" y="6116760"/>
              <a:ext cx="2520720" cy="768240"/>
            </a:xfrm>
            <a:custGeom>
              <a:avLst/>
              <a:gdLst/>
              <a:ahLst/>
              <a:rect l="l" t="t" r="r" b="b"/>
              <a:pathLst>
                <a:path w="2520950" h="907964">
                  <a:moveTo>
                    <a:pt x="151330" y="0"/>
                  </a:moveTo>
                  <a:lnTo>
                    <a:pt x="2369620" y="0"/>
                  </a:lnTo>
                  <a:lnTo>
                    <a:pt x="2520950" y="151330"/>
                  </a:lnTo>
                  <a:lnTo>
                    <a:pt x="2520950" y="907964"/>
                  </a:lnTo>
                  <a:lnTo>
                    <a:pt x="0" y="907964"/>
                  </a:lnTo>
                  <a:lnTo>
                    <a:pt x="0" y="151330"/>
                  </a:lnTo>
                  <a:cubicBezTo>
                    <a:pt x="0" y="67753"/>
                    <a:pt x="67753" y="0"/>
                    <a:pt x="151330" y="0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Imagem 12" descr=""/>
          <p:cNvPicPr/>
          <p:nvPr/>
        </p:nvPicPr>
        <p:blipFill>
          <a:blip r:embed="rId2"/>
          <a:stretch/>
        </p:blipFill>
        <p:spPr>
          <a:xfrm>
            <a:off x="6469200" y="6458040"/>
            <a:ext cx="2493720" cy="426960"/>
          </a:xfrm>
          <a:prstGeom prst="rect">
            <a:avLst/>
          </a:prstGeom>
          <a:ln w="0">
            <a:noFill/>
          </a:ln>
        </p:spPr>
      </p:pic>
      <p:sp>
        <p:nvSpPr>
          <p:cNvPr id="53" name="Retângulo 4"/>
          <p:cNvSpPr/>
          <p:nvPr/>
        </p:nvSpPr>
        <p:spPr>
          <a:xfrm>
            <a:off x="357120" y="620640"/>
            <a:ext cx="878688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OS DESAFIOS DOS ENGENHEIROS CIVIS RECÉM-FORMADOS: ESTUDO DE CASO DA FACULDADE NORTE CAPIXABA DE SÃO MATEU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Amanda Borghi Barbo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Danieli Santos Ty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Orientadora: Janaelly Leite Cupert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Dezembro de 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Espaço Reservado para Número de Slide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BBC64-D00C-46C1-96E8-533C5FB4110A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topo_saoMateus"/>
          <p:cNvPicPr/>
          <p:nvPr/>
        </p:nvPicPr>
        <p:blipFill>
          <a:blip r:embed="rId1"/>
          <a:stretch/>
        </p:blipFill>
        <p:spPr>
          <a:xfrm>
            <a:off x="179280" y="236520"/>
            <a:ext cx="8715600" cy="1104840"/>
          </a:xfrm>
          <a:prstGeom prst="rect">
            <a:avLst/>
          </a:prstGeom>
          <a:ln w="0">
            <a:noFill/>
          </a:ln>
        </p:spPr>
      </p:pic>
      <p:grpSp>
        <p:nvGrpSpPr>
          <p:cNvPr id="120" name="Grupo 3"/>
          <p:cNvGrpSpPr/>
          <p:nvPr/>
        </p:nvGrpSpPr>
        <p:grpSpPr>
          <a:xfrm>
            <a:off x="31680" y="6093000"/>
            <a:ext cx="9144000" cy="792000"/>
            <a:chOff x="31680" y="6093000"/>
            <a:chExt cx="9144000" cy="792000"/>
          </a:xfrm>
        </p:grpSpPr>
        <p:sp>
          <p:nvSpPr>
            <p:cNvPr id="121" name="Retângulo com Único Canto Aparado e Arredondado 4"/>
            <p:cNvSpPr/>
            <p:nvPr/>
          </p:nvSpPr>
          <p:spPr>
            <a:xfrm>
              <a:off x="31680" y="6093000"/>
              <a:ext cx="9144000" cy="768240"/>
            </a:xfrm>
            <a:custGeom>
              <a:avLst/>
              <a:gdLst/>
              <a:ahLst/>
              <a:rect l="l" t="t" r="r" b="b"/>
              <a:pathLst>
                <a:path w="9144000" h="907964">
                  <a:moveTo>
                    <a:pt x="151330" y="0"/>
                  </a:moveTo>
                  <a:lnTo>
                    <a:pt x="8992670" y="0"/>
                  </a:lnTo>
                  <a:lnTo>
                    <a:pt x="9144000" y="151330"/>
                  </a:lnTo>
                  <a:lnTo>
                    <a:pt x="9144000" y="907964"/>
                  </a:lnTo>
                  <a:lnTo>
                    <a:pt x="0" y="907964"/>
                  </a:lnTo>
                  <a:lnTo>
                    <a:pt x="0" y="151330"/>
                  </a:lnTo>
                  <a:cubicBezTo>
                    <a:pt x="0" y="67753"/>
                    <a:pt x="67753" y="0"/>
                    <a:pt x="151330" y="0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tângulo com Único Canto Aparado e Arredondado 5"/>
            <p:cNvSpPr/>
            <p:nvPr/>
          </p:nvSpPr>
          <p:spPr>
            <a:xfrm flipH="1">
              <a:off x="6654960" y="6116760"/>
              <a:ext cx="2520720" cy="768240"/>
            </a:xfrm>
            <a:custGeom>
              <a:avLst/>
              <a:gdLst/>
              <a:ahLst/>
              <a:rect l="l" t="t" r="r" b="b"/>
              <a:pathLst>
                <a:path w="2520950" h="907964">
                  <a:moveTo>
                    <a:pt x="151330" y="0"/>
                  </a:moveTo>
                  <a:lnTo>
                    <a:pt x="2369620" y="0"/>
                  </a:lnTo>
                  <a:lnTo>
                    <a:pt x="2520950" y="151330"/>
                  </a:lnTo>
                  <a:lnTo>
                    <a:pt x="2520950" y="907964"/>
                  </a:lnTo>
                  <a:lnTo>
                    <a:pt x="0" y="907964"/>
                  </a:lnTo>
                  <a:lnTo>
                    <a:pt x="0" y="151330"/>
                  </a:lnTo>
                  <a:cubicBezTo>
                    <a:pt x="0" y="67753"/>
                    <a:pt x="67753" y="0"/>
                    <a:pt x="151330" y="0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" name="Imagem 12" descr=""/>
          <p:cNvPicPr/>
          <p:nvPr/>
        </p:nvPicPr>
        <p:blipFill>
          <a:blip r:embed="rId2"/>
          <a:stretch/>
        </p:blipFill>
        <p:spPr>
          <a:xfrm>
            <a:off x="6469200" y="6458040"/>
            <a:ext cx="2493720" cy="42696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1"/>
          <p:cNvSpPr/>
          <p:nvPr/>
        </p:nvSpPr>
        <p:spPr>
          <a:xfrm>
            <a:off x="1657440" y="252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tângulo 4"/>
          <p:cNvSpPr/>
          <p:nvPr/>
        </p:nvSpPr>
        <p:spPr>
          <a:xfrm>
            <a:off x="179280" y="1023840"/>
            <a:ext cx="8786880" cy="45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Capítulo 1 – Atribuições do Engenheiro Civ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Perfil do Engenheiro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Exercício da profissão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Experiência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Espaço Reservado para Número de Slide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CC229-AC24-47A5-A1EF-F3FDC858F66C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topo_saoMateus"/>
          <p:cNvPicPr/>
          <p:nvPr/>
        </p:nvPicPr>
        <p:blipFill>
          <a:blip r:embed="rId1"/>
          <a:stretch/>
        </p:blipFill>
        <p:spPr>
          <a:xfrm>
            <a:off x="179280" y="236520"/>
            <a:ext cx="8715600" cy="1104840"/>
          </a:xfrm>
          <a:prstGeom prst="rect">
            <a:avLst/>
          </a:prstGeom>
          <a:ln w="0">
            <a:noFill/>
          </a:ln>
        </p:spPr>
      </p:pic>
      <p:grpSp>
        <p:nvGrpSpPr>
          <p:cNvPr id="128" name="Grupo 3"/>
          <p:cNvGrpSpPr/>
          <p:nvPr/>
        </p:nvGrpSpPr>
        <p:grpSpPr>
          <a:xfrm>
            <a:off x="31680" y="6093000"/>
            <a:ext cx="9144000" cy="792000"/>
            <a:chOff x="31680" y="6093000"/>
            <a:chExt cx="9144000" cy="792000"/>
          </a:xfrm>
        </p:grpSpPr>
        <p:sp>
          <p:nvSpPr>
            <p:cNvPr id="129" name="Retângulo com Único Canto Aparado e Arredondado 4"/>
            <p:cNvSpPr/>
            <p:nvPr/>
          </p:nvSpPr>
          <p:spPr>
            <a:xfrm>
              <a:off x="31680" y="6093000"/>
              <a:ext cx="9144000" cy="768240"/>
            </a:xfrm>
            <a:custGeom>
              <a:avLst/>
              <a:gdLst/>
              <a:ahLst/>
              <a:rect l="l" t="t" r="r" b="b"/>
              <a:pathLst>
                <a:path w="9144000" h="907964">
                  <a:moveTo>
                    <a:pt x="151330" y="0"/>
                  </a:moveTo>
                  <a:lnTo>
                    <a:pt x="8992670" y="0"/>
                  </a:lnTo>
                  <a:lnTo>
                    <a:pt x="9144000" y="151330"/>
                  </a:lnTo>
                  <a:lnTo>
                    <a:pt x="9144000" y="907964"/>
                  </a:lnTo>
                  <a:lnTo>
                    <a:pt x="0" y="907964"/>
                  </a:lnTo>
                  <a:lnTo>
                    <a:pt x="0" y="151330"/>
                  </a:lnTo>
                  <a:cubicBezTo>
                    <a:pt x="0" y="67753"/>
                    <a:pt x="67753" y="0"/>
                    <a:pt x="151330" y="0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tângulo com Único Canto Aparado e Arredondado 5"/>
            <p:cNvSpPr/>
            <p:nvPr/>
          </p:nvSpPr>
          <p:spPr>
            <a:xfrm flipH="1">
              <a:off x="6654960" y="6116760"/>
              <a:ext cx="2520720" cy="768240"/>
            </a:xfrm>
            <a:custGeom>
              <a:avLst/>
              <a:gdLst/>
              <a:ahLst/>
              <a:rect l="l" t="t" r="r" b="b"/>
              <a:pathLst>
                <a:path w="2520950" h="907964">
                  <a:moveTo>
                    <a:pt x="151330" y="0"/>
                  </a:moveTo>
                  <a:lnTo>
                    <a:pt x="2369620" y="0"/>
                  </a:lnTo>
                  <a:lnTo>
                    <a:pt x="2520950" y="151330"/>
                  </a:lnTo>
                  <a:lnTo>
                    <a:pt x="2520950" y="907964"/>
                  </a:lnTo>
                  <a:lnTo>
                    <a:pt x="0" y="907964"/>
                  </a:lnTo>
                  <a:lnTo>
                    <a:pt x="0" y="151330"/>
                  </a:lnTo>
                  <a:cubicBezTo>
                    <a:pt x="0" y="67753"/>
                    <a:pt x="67753" y="0"/>
                    <a:pt x="151330" y="0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" name="Imagem 12" descr=""/>
          <p:cNvPicPr/>
          <p:nvPr/>
        </p:nvPicPr>
        <p:blipFill>
          <a:blip r:embed="rId2"/>
          <a:stretch/>
        </p:blipFill>
        <p:spPr>
          <a:xfrm>
            <a:off x="6469200" y="6458040"/>
            <a:ext cx="2493720" cy="42696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1"/>
          <p:cNvSpPr/>
          <p:nvPr/>
        </p:nvSpPr>
        <p:spPr>
          <a:xfrm>
            <a:off x="1657440" y="252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tângulo 4"/>
          <p:cNvSpPr/>
          <p:nvPr/>
        </p:nvSpPr>
        <p:spPr>
          <a:xfrm>
            <a:off x="179280" y="1023840"/>
            <a:ext cx="8786880" cy="50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Capítulo 2 – Desafios comuns dos Engenheiros Civis na atualid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Preocupação dos recém-formados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Eficiência profissional 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Relações interpessoai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Espaço Reservado para Número de Slide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99499-9E5C-486E-9022-15103BE6EDE6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topo_saoMateus"/>
          <p:cNvPicPr/>
          <p:nvPr/>
        </p:nvPicPr>
        <p:blipFill>
          <a:blip r:embed="rId1"/>
          <a:stretch/>
        </p:blipFill>
        <p:spPr>
          <a:xfrm>
            <a:off x="179280" y="236520"/>
            <a:ext cx="8715600" cy="1104840"/>
          </a:xfrm>
          <a:prstGeom prst="rect">
            <a:avLst/>
          </a:prstGeom>
          <a:ln w="0">
            <a:noFill/>
          </a:ln>
        </p:spPr>
      </p:pic>
      <p:grpSp>
        <p:nvGrpSpPr>
          <p:cNvPr id="136" name="Grupo 3"/>
          <p:cNvGrpSpPr/>
          <p:nvPr/>
        </p:nvGrpSpPr>
        <p:grpSpPr>
          <a:xfrm>
            <a:off x="31680" y="6093000"/>
            <a:ext cx="9144000" cy="792000"/>
            <a:chOff x="31680" y="6093000"/>
            <a:chExt cx="9144000" cy="792000"/>
          </a:xfrm>
        </p:grpSpPr>
        <p:sp>
          <p:nvSpPr>
            <p:cNvPr id="137" name="Retângulo com Único Canto Aparado e Arredondado 4"/>
            <p:cNvSpPr/>
            <p:nvPr/>
          </p:nvSpPr>
          <p:spPr>
            <a:xfrm>
              <a:off x="31680" y="6093000"/>
              <a:ext cx="9144000" cy="768240"/>
            </a:xfrm>
            <a:custGeom>
              <a:avLst/>
              <a:gdLst/>
              <a:ahLst/>
              <a:rect l="l" t="t" r="r" b="b"/>
              <a:pathLst>
                <a:path w="9144000" h="907964">
                  <a:moveTo>
                    <a:pt x="151330" y="0"/>
                  </a:moveTo>
                  <a:lnTo>
                    <a:pt x="8992670" y="0"/>
                  </a:lnTo>
                  <a:lnTo>
                    <a:pt x="9144000" y="151330"/>
                  </a:lnTo>
                  <a:lnTo>
                    <a:pt x="9144000" y="907964"/>
                  </a:lnTo>
                  <a:lnTo>
                    <a:pt x="0" y="907964"/>
                  </a:lnTo>
                  <a:lnTo>
                    <a:pt x="0" y="151330"/>
                  </a:lnTo>
                  <a:cubicBezTo>
                    <a:pt x="0" y="67753"/>
                    <a:pt x="67753" y="0"/>
                    <a:pt x="151330" y="0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tângulo com Único Canto Aparado e Arredondado 5"/>
            <p:cNvSpPr/>
            <p:nvPr/>
          </p:nvSpPr>
          <p:spPr>
            <a:xfrm flipH="1">
              <a:off x="6654960" y="6116760"/>
              <a:ext cx="2520720" cy="768240"/>
            </a:xfrm>
            <a:custGeom>
              <a:avLst/>
              <a:gdLst/>
              <a:ahLst/>
              <a:rect l="l" t="t" r="r" b="b"/>
              <a:pathLst>
                <a:path w="2520950" h="907964">
                  <a:moveTo>
                    <a:pt x="151330" y="0"/>
                  </a:moveTo>
                  <a:lnTo>
                    <a:pt x="2369620" y="0"/>
                  </a:lnTo>
                  <a:lnTo>
                    <a:pt x="2520950" y="151330"/>
                  </a:lnTo>
                  <a:lnTo>
                    <a:pt x="2520950" y="907964"/>
                  </a:lnTo>
                  <a:lnTo>
                    <a:pt x="0" y="907964"/>
                  </a:lnTo>
                  <a:lnTo>
                    <a:pt x="0" y="151330"/>
                  </a:lnTo>
                  <a:cubicBezTo>
                    <a:pt x="0" y="67753"/>
                    <a:pt x="67753" y="0"/>
                    <a:pt x="151330" y="0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9" name="Imagem 12" descr=""/>
          <p:cNvPicPr/>
          <p:nvPr/>
        </p:nvPicPr>
        <p:blipFill>
          <a:blip r:embed="rId2"/>
          <a:stretch/>
        </p:blipFill>
        <p:spPr>
          <a:xfrm>
            <a:off x="6469200" y="6458040"/>
            <a:ext cx="2493720" cy="42696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1"/>
          <p:cNvSpPr/>
          <p:nvPr/>
        </p:nvSpPr>
        <p:spPr>
          <a:xfrm>
            <a:off x="1657440" y="252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tângulo 4"/>
          <p:cNvSpPr/>
          <p:nvPr/>
        </p:nvSpPr>
        <p:spPr>
          <a:xfrm>
            <a:off x="179280" y="1023840"/>
            <a:ext cx="8786880" cy="50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Capítulo  3 – O mercado de trabalho e suas exigências em relação ao Engenheiro Civ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Solicitações do mercado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Busca pelo diferencial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Comprometimento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spaço Reservado para Número de Slide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32C83-F721-4CFF-A20A-99366944C109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topo_saoMateus"/>
          <p:cNvPicPr/>
          <p:nvPr/>
        </p:nvPicPr>
        <p:blipFill>
          <a:blip r:embed="rId1"/>
          <a:stretch/>
        </p:blipFill>
        <p:spPr>
          <a:xfrm>
            <a:off x="0" y="333360"/>
            <a:ext cx="8715240" cy="1104840"/>
          </a:xfrm>
          <a:prstGeom prst="rect">
            <a:avLst/>
          </a:prstGeom>
          <a:ln w="0">
            <a:noFill/>
          </a:ln>
        </p:spPr>
      </p:pic>
      <p:grpSp>
        <p:nvGrpSpPr>
          <p:cNvPr id="144" name="Grupo 3"/>
          <p:cNvGrpSpPr/>
          <p:nvPr/>
        </p:nvGrpSpPr>
        <p:grpSpPr>
          <a:xfrm>
            <a:off x="31680" y="6093000"/>
            <a:ext cx="9144000" cy="792000"/>
            <a:chOff x="31680" y="6093000"/>
            <a:chExt cx="9144000" cy="792000"/>
          </a:xfrm>
        </p:grpSpPr>
        <p:sp>
          <p:nvSpPr>
            <p:cNvPr id="145" name="Retângulo com Único Canto Aparado e Arredondado 4"/>
            <p:cNvSpPr/>
            <p:nvPr/>
          </p:nvSpPr>
          <p:spPr>
            <a:xfrm>
              <a:off x="31680" y="6093000"/>
              <a:ext cx="9144000" cy="768240"/>
            </a:xfrm>
            <a:custGeom>
              <a:avLst/>
              <a:gdLst/>
              <a:ahLst/>
              <a:rect l="l" t="t" r="r" b="b"/>
              <a:pathLst>
                <a:path w="9144000" h="907964">
                  <a:moveTo>
                    <a:pt x="151330" y="0"/>
                  </a:moveTo>
                  <a:lnTo>
                    <a:pt x="8992670" y="0"/>
                  </a:lnTo>
                  <a:lnTo>
                    <a:pt x="9144000" y="151330"/>
                  </a:lnTo>
                  <a:lnTo>
                    <a:pt x="9144000" y="907964"/>
                  </a:lnTo>
                  <a:lnTo>
                    <a:pt x="0" y="907964"/>
                  </a:lnTo>
                  <a:lnTo>
                    <a:pt x="0" y="151330"/>
                  </a:lnTo>
                  <a:cubicBezTo>
                    <a:pt x="0" y="67753"/>
                    <a:pt x="67753" y="0"/>
                    <a:pt x="151330" y="0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tângulo com Único Canto Aparado e Arredondado 5"/>
            <p:cNvSpPr/>
            <p:nvPr/>
          </p:nvSpPr>
          <p:spPr>
            <a:xfrm flipH="1">
              <a:off x="6654960" y="6116760"/>
              <a:ext cx="2520720" cy="768240"/>
            </a:xfrm>
            <a:custGeom>
              <a:avLst/>
              <a:gdLst/>
              <a:ahLst/>
              <a:rect l="l" t="t" r="r" b="b"/>
              <a:pathLst>
                <a:path w="2520950" h="907964">
                  <a:moveTo>
                    <a:pt x="151330" y="0"/>
                  </a:moveTo>
                  <a:lnTo>
                    <a:pt x="2369620" y="0"/>
                  </a:lnTo>
                  <a:lnTo>
                    <a:pt x="2520950" y="151330"/>
                  </a:lnTo>
                  <a:lnTo>
                    <a:pt x="2520950" y="907964"/>
                  </a:lnTo>
                  <a:lnTo>
                    <a:pt x="0" y="907964"/>
                  </a:lnTo>
                  <a:lnTo>
                    <a:pt x="0" y="151330"/>
                  </a:lnTo>
                  <a:cubicBezTo>
                    <a:pt x="0" y="67753"/>
                    <a:pt x="67753" y="0"/>
                    <a:pt x="151330" y="0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7" name="Imagem 12" descr=""/>
          <p:cNvPicPr/>
          <p:nvPr/>
        </p:nvPicPr>
        <p:blipFill>
          <a:blip r:embed="rId2"/>
          <a:stretch/>
        </p:blipFill>
        <p:spPr>
          <a:xfrm>
            <a:off x="6469200" y="6458040"/>
            <a:ext cx="2493720" cy="42696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1"/>
          <p:cNvSpPr/>
          <p:nvPr/>
        </p:nvSpPr>
        <p:spPr>
          <a:xfrm>
            <a:off x="1657440" y="252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tângulo 4"/>
          <p:cNvSpPr/>
          <p:nvPr/>
        </p:nvSpPr>
        <p:spPr>
          <a:xfrm>
            <a:off x="179280" y="1023840"/>
            <a:ext cx="8786880" cy="50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OS DESAFIOS DOS ENGENHEIROS CIVIS RECÉM-FORMADOS: ESTUDO DE CASO DA FACULDADE NORTE CAPIXABA DE SÃO MATEU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Introd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Referencial Teór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resentação e Análise de Dados/Estudo de Ca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Conclusão e Recomend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Referências Bibliográfic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Espaço Reservado para Número de Slide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2FD8D-BF06-47ED-9C6D-DB82DE6028DD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topo_saoMateus"/>
          <p:cNvPicPr/>
          <p:nvPr/>
        </p:nvPicPr>
        <p:blipFill>
          <a:blip r:embed="rId1"/>
          <a:stretch/>
        </p:blipFill>
        <p:spPr>
          <a:xfrm>
            <a:off x="179280" y="236520"/>
            <a:ext cx="8715600" cy="1104840"/>
          </a:xfrm>
          <a:prstGeom prst="rect">
            <a:avLst/>
          </a:prstGeom>
          <a:ln w="0">
            <a:noFill/>
          </a:ln>
        </p:spPr>
      </p:pic>
      <p:grpSp>
        <p:nvGrpSpPr>
          <p:cNvPr id="152" name="Grupo 3"/>
          <p:cNvGrpSpPr/>
          <p:nvPr/>
        </p:nvGrpSpPr>
        <p:grpSpPr>
          <a:xfrm>
            <a:off x="31680" y="6093000"/>
            <a:ext cx="9144000" cy="792000"/>
            <a:chOff x="31680" y="6093000"/>
            <a:chExt cx="9144000" cy="792000"/>
          </a:xfrm>
        </p:grpSpPr>
        <p:sp>
          <p:nvSpPr>
            <p:cNvPr id="153" name="Retângulo com Único Canto Aparado e Arredondado 4"/>
            <p:cNvSpPr/>
            <p:nvPr/>
          </p:nvSpPr>
          <p:spPr>
            <a:xfrm>
              <a:off x="31680" y="6093000"/>
              <a:ext cx="9144000" cy="768240"/>
            </a:xfrm>
            <a:custGeom>
              <a:avLst/>
              <a:gdLst/>
              <a:ahLst/>
              <a:rect l="l" t="t" r="r" b="b"/>
              <a:pathLst>
                <a:path w="9144000" h="907964">
                  <a:moveTo>
                    <a:pt x="151330" y="0"/>
                  </a:moveTo>
                  <a:lnTo>
                    <a:pt x="8992670" y="0"/>
                  </a:lnTo>
                  <a:lnTo>
                    <a:pt x="9144000" y="151330"/>
                  </a:lnTo>
                  <a:lnTo>
                    <a:pt x="9144000" y="907964"/>
                  </a:lnTo>
                  <a:lnTo>
                    <a:pt x="0" y="907964"/>
                  </a:lnTo>
                  <a:lnTo>
                    <a:pt x="0" y="151330"/>
                  </a:lnTo>
                  <a:cubicBezTo>
                    <a:pt x="0" y="67753"/>
                    <a:pt x="67753" y="0"/>
                    <a:pt x="151330" y="0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tângulo com Único Canto Aparado e Arredondado 5"/>
            <p:cNvSpPr/>
            <p:nvPr/>
          </p:nvSpPr>
          <p:spPr>
            <a:xfrm flipH="1">
              <a:off x="6654960" y="6116760"/>
              <a:ext cx="2520720" cy="768240"/>
            </a:xfrm>
            <a:custGeom>
              <a:avLst/>
              <a:gdLst/>
              <a:ahLst/>
              <a:rect l="l" t="t" r="r" b="b"/>
              <a:pathLst>
                <a:path w="2520950" h="907964">
                  <a:moveTo>
                    <a:pt x="151330" y="0"/>
                  </a:moveTo>
                  <a:lnTo>
                    <a:pt x="2369620" y="0"/>
                  </a:lnTo>
                  <a:lnTo>
                    <a:pt x="2520950" y="151330"/>
                  </a:lnTo>
                  <a:lnTo>
                    <a:pt x="2520950" y="907964"/>
                  </a:lnTo>
                  <a:lnTo>
                    <a:pt x="0" y="907964"/>
                  </a:lnTo>
                  <a:lnTo>
                    <a:pt x="0" y="151330"/>
                  </a:lnTo>
                  <a:cubicBezTo>
                    <a:pt x="0" y="67753"/>
                    <a:pt x="67753" y="0"/>
                    <a:pt x="151330" y="0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5" name="Imagem 12" descr=""/>
          <p:cNvPicPr/>
          <p:nvPr/>
        </p:nvPicPr>
        <p:blipFill>
          <a:blip r:embed="rId2"/>
          <a:stretch/>
        </p:blipFill>
        <p:spPr>
          <a:xfrm>
            <a:off x="6469200" y="6458040"/>
            <a:ext cx="2493720" cy="42696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"/>
          <p:cNvSpPr/>
          <p:nvPr/>
        </p:nvSpPr>
        <p:spPr>
          <a:xfrm>
            <a:off x="1657440" y="252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tângulo 4"/>
          <p:cNvSpPr/>
          <p:nvPr/>
        </p:nvSpPr>
        <p:spPr>
          <a:xfrm>
            <a:off x="179280" y="1023840"/>
            <a:ext cx="8786880" cy="47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Apresentação e Análise dos dados/Estudo de cas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Os sujeitos de pesquisa foram os alunos do décimo período do Curso de Graduação em Engenharia Civil do turno noturno, da Faculdade Norte Capixaba de São Mateus e Engenheiros Civis atuantes no mercado de trabalho de São Mateus-ES.  Total de 57 alunos e 23 profissiona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Espaço Reservado para Número de Slide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CF994-53EB-4106-970F-88DF7CC77E81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topo_saoMateus"/>
          <p:cNvPicPr/>
          <p:nvPr/>
        </p:nvPicPr>
        <p:blipFill>
          <a:blip r:embed="rId1"/>
          <a:stretch/>
        </p:blipFill>
        <p:spPr>
          <a:xfrm>
            <a:off x="179280" y="236520"/>
            <a:ext cx="8715600" cy="1104840"/>
          </a:xfrm>
          <a:prstGeom prst="rect">
            <a:avLst/>
          </a:prstGeom>
          <a:ln w="0">
            <a:noFill/>
          </a:ln>
        </p:spPr>
      </p:pic>
      <p:grpSp>
        <p:nvGrpSpPr>
          <p:cNvPr id="160" name="Grupo 3"/>
          <p:cNvGrpSpPr/>
          <p:nvPr/>
        </p:nvGrpSpPr>
        <p:grpSpPr>
          <a:xfrm>
            <a:off x="31680" y="6093000"/>
            <a:ext cx="9144000" cy="792000"/>
            <a:chOff x="31680" y="6093000"/>
            <a:chExt cx="9144000" cy="792000"/>
          </a:xfrm>
        </p:grpSpPr>
        <p:sp>
          <p:nvSpPr>
            <p:cNvPr id="161" name="Retângulo com Único Canto Aparado e Arredondado 4"/>
            <p:cNvSpPr/>
            <p:nvPr/>
          </p:nvSpPr>
          <p:spPr>
            <a:xfrm>
              <a:off x="31680" y="6093000"/>
              <a:ext cx="9144000" cy="768240"/>
            </a:xfrm>
            <a:custGeom>
              <a:avLst/>
              <a:gdLst/>
              <a:ahLst/>
              <a:rect l="l" t="t" r="r" b="b"/>
              <a:pathLst>
                <a:path w="9144000" h="907964">
                  <a:moveTo>
                    <a:pt x="151330" y="0"/>
                  </a:moveTo>
                  <a:lnTo>
                    <a:pt x="8992670" y="0"/>
                  </a:lnTo>
                  <a:lnTo>
                    <a:pt x="9144000" y="151330"/>
                  </a:lnTo>
                  <a:lnTo>
                    <a:pt x="9144000" y="907964"/>
                  </a:lnTo>
                  <a:lnTo>
                    <a:pt x="0" y="907964"/>
                  </a:lnTo>
                  <a:lnTo>
                    <a:pt x="0" y="151330"/>
                  </a:lnTo>
                  <a:cubicBezTo>
                    <a:pt x="0" y="67753"/>
                    <a:pt x="67753" y="0"/>
                    <a:pt x="151330" y="0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tângulo com Único Canto Aparado e Arredondado 5"/>
            <p:cNvSpPr/>
            <p:nvPr/>
          </p:nvSpPr>
          <p:spPr>
            <a:xfrm flipH="1">
              <a:off x="6654960" y="6116760"/>
              <a:ext cx="2520720" cy="768240"/>
            </a:xfrm>
            <a:custGeom>
              <a:avLst/>
              <a:gdLst/>
              <a:ahLst/>
              <a:rect l="l" t="t" r="r" b="b"/>
              <a:pathLst>
                <a:path w="2520950" h="907964">
                  <a:moveTo>
                    <a:pt x="151330" y="0"/>
                  </a:moveTo>
                  <a:lnTo>
                    <a:pt x="2369620" y="0"/>
                  </a:lnTo>
                  <a:lnTo>
                    <a:pt x="2520950" y="151330"/>
                  </a:lnTo>
                  <a:lnTo>
                    <a:pt x="2520950" y="907964"/>
                  </a:lnTo>
                  <a:lnTo>
                    <a:pt x="0" y="907964"/>
                  </a:lnTo>
                  <a:lnTo>
                    <a:pt x="0" y="151330"/>
                  </a:lnTo>
                  <a:cubicBezTo>
                    <a:pt x="0" y="67753"/>
                    <a:pt x="67753" y="0"/>
                    <a:pt x="151330" y="0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3" name="Imagem 12" descr=""/>
          <p:cNvPicPr/>
          <p:nvPr/>
        </p:nvPicPr>
        <p:blipFill>
          <a:blip r:embed="rId2"/>
          <a:stretch/>
        </p:blipFill>
        <p:spPr>
          <a:xfrm>
            <a:off x="6469200" y="6458040"/>
            <a:ext cx="2493720" cy="42696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1"/>
          <p:cNvSpPr/>
          <p:nvPr/>
        </p:nvSpPr>
        <p:spPr>
          <a:xfrm>
            <a:off x="1657440" y="252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tângulo 4"/>
          <p:cNvSpPr/>
          <p:nvPr/>
        </p:nvSpPr>
        <p:spPr>
          <a:xfrm>
            <a:off x="179280" y="1023840"/>
            <a:ext cx="8786880" cy="12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Apresentação e Análise dos dados/Estudo de ca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tângulo 2"/>
          <p:cNvSpPr/>
          <p:nvPr/>
        </p:nvSpPr>
        <p:spPr>
          <a:xfrm>
            <a:off x="179280" y="2965320"/>
            <a:ext cx="871560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Identificar as dificuldades dos alunos recém-formados em Engenharia Civil no mercado de trabalho de São Mateu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Espaço Reservado para Número de Slide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A548E-C0B0-4F97-A986-CCD84A7FC4E9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topo_saoMateus"/>
          <p:cNvPicPr/>
          <p:nvPr/>
        </p:nvPicPr>
        <p:blipFill>
          <a:blip r:embed="rId1"/>
          <a:stretch/>
        </p:blipFill>
        <p:spPr>
          <a:xfrm>
            <a:off x="179280" y="236520"/>
            <a:ext cx="8715600" cy="1104840"/>
          </a:xfrm>
          <a:prstGeom prst="rect">
            <a:avLst/>
          </a:prstGeom>
          <a:ln w="0">
            <a:noFill/>
          </a:ln>
        </p:spPr>
      </p:pic>
      <p:grpSp>
        <p:nvGrpSpPr>
          <p:cNvPr id="169" name="Grupo 3"/>
          <p:cNvGrpSpPr/>
          <p:nvPr/>
        </p:nvGrpSpPr>
        <p:grpSpPr>
          <a:xfrm>
            <a:off x="31680" y="6093000"/>
            <a:ext cx="9144000" cy="792000"/>
            <a:chOff x="31680" y="6093000"/>
            <a:chExt cx="9144000" cy="792000"/>
          </a:xfrm>
        </p:grpSpPr>
        <p:sp>
          <p:nvSpPr>
            <p:cNvPr id="170" name="Retângulo com Único Canto Aparado e Arredondado 4"/>
            <p:cNvSpPr/>
            <p:nvPr/>
          </p:nvSpPr>
          <p:spPr>
            <a:xfrm>
              <a:off x="31680" y="6093000"/>
              <a:ext cx="9144000" cy="768240"/>
            </a:xfrm>
            <a:custGeom>
              <a:avLst/>
              <a:gdLst/>
              <a:ahLst/>
              <a:rect l="l" t="t" r="r" b="b"/>
              <a:pathLst>
                <a:path w="9144000" h="907964">
                  <a:moveTo>
                    <a:pt x="151330" y="0"/>
                  </a:moveTo>
                  <a:lnTo>
                    <a:pt x="8992670" y="0"/>
                  </a:lnTo>
                  <a:lnTo>
                    <a:pt x="9144000" y="151330"/>
                  </a:lnTo>
                  <a:lnTo>
                    <a:pt x="9144000" y="907964"/>
                  </a:lnTo>
                  <a:lnTo>
                    <a:pt x="0" y="907964"/>
                  </a:lnTo>
                  <a:lnTo>
                    <a:pt x="0" y="151330"/>
                  </a:lnTo>
                  <a:cubicBezTo>
                    <a:pt x="0" y="67753"/>
                    <a:pt x="67753" y="0"/>
                    <a:pt x="151330" y="0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tângulo com Único Canto Aparado e Arredondado 5"/>
            <p:cNvSpPr/>
            <p:nvPr/>
          </p:nvSpPr>
          <p:spPr>
            <a:xfrm flipH="1">
              <a:off x="6654960" y="6116760"/>
              <a:ext cx="2520720" cy="768240"/>
            </a:xfrm>
            <a:custGeom>
              <a:avLst/>
              <a:gdLst/>
              <a:ahLst/>
              <a:rect l="l" t="t" r="r" b="b"/>
              <a:pathLst>
                <a:path w="2520950" h="907964">
                  <a:moveTo>
                    <a:pt x="151330" y="0"/>
                  </a:moveTo>
                  <a:lnTo>
                    <a:pt x="2369620" y="0"/>
                  </a:lnTo>
                  <a:lnTo>
                    <a:pt x="2520950" y="151330"/>
                  </a:lnTo>
                  <a:lnTo>
                    <a:pt x="2520950" y="907964"/>
                  </a:lnTo>
                  <a:lnTo>
                    <a:pt x="0" y="907964"/>
                  </a:lnTo>
                  <a:lnTo>
                    <a:pt x="0" y="151330"/>
                  </a:lnTo>
                  <a:cubicBezTo>
                    <a:pt x="0" y="67753"/>
                    <a:pt x="67753" y="0"/>
                    <a:pt x="151330" y="0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2" name="Imagem 12" descr=""/>
          <p:cNvPicPr/>
          <p:nvPr/>
        </p:nvPicPr>
        <p:blipFill>
          <a:blip r:embed="rId2"/>
          <a:stretch/>
        </p:blipFill>
        <p:spPr>
          <a:xfrm>
            <a:off x="6469200" y="6458040"/>
            <a:ext cx="2493720" cy="42696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1"/>
          <p:cNvSpPr/>
          <p:nvPr/>
        </p:nvSpPr>
        <p:spPr>
          <a:xfrm>
            <a:off x="1657440" y="252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tângulo 4"/>
          <p:cNvSpPr/>
          <p:nvPr/>
        </p:nvSpPr>
        <p:spPr>
          <a:xfrm>
            <a:off x="179280" y="1023840"/>
            <a:ext cx="8786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Apresentação e Análise dos dados/Estudo de ca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"Estou preparado para atuar no mercado de trabalho como Engenheiro (a) Civil.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Imagem 8" descr=""/>
          <p:cNvPicPr/>
          <p:nvPr/>
        </p:nvPicPr>
        <p:blipFill>
          <a:blip r:embed="rId3"/>
          <a:stretch/>
        </p:blipFill>
        <p:spPr>
          <a:xfrm>
            <a:off x="1149480" y="2986200"/>
            <a:ext cx="6908760" cy="26827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176" name="Retângulo 1"/>
          <p:cNvSpPr/>
          <p:nvPr/>
        </p:nvSpPr>
        <p:spPr>
          <a:xfrm>
            <a:off x="1082520" y="5732640"/>
            <a:ext cx="690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Gráfico 1 - Análise dos entrevistados quanto ao seu preparo para atuação, p.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Espaço Reservado para Número de Slide 1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4FA91-995D-4DD8-BF22-DC6A8BED635D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topo_saoMateus"/>
          <p:cNvPicPr/>
          <p:nvPr/>
        </p:nvPicPr>
        <p:blipFill>
          <a:blip r:embed="rId1"/>
          <a:stretch/>
        </p:blipFill>
        <p:spPr>
          <a:xfrm>
            <a:off x="179280" y="236520"/>
            <a:ext cx="8715600" cy="1104840"/>
          </a:xfrm>
          <a:prstGeom prst="rect">
            <a:avLst/>
          </a:prstGeom>
          <a:ln w="0">
            <a:noFill/>
          </a:ln>
        </p:spPr>
      </p:pic>
      <p:grpSp>
        <p:nvGrpSpPr>
          <p:cNvPr id="179" name="Grupo 3"/>
          <p:cNvGrpSpPr/>
          <p:nvPr/>
        </p:nvGrpSpPr>
        <p:grpSpPr>
          <a:xfrm>
            <a:off x="31680" y="6093000"/>
            <a:ext cx="9144000" cy="792000"/>
            <a:chOff x="31680" y="6093000"/>
            <a:chExt cx="9144000" cy="792000"/>
          </a:xfrm>
        </p:grpSpPr>
        <p:sp>
          <p:nvSpPr>
            <p:cNvPr id="180" name="Retângulo com Único Canto Aparado e Arredondado 4"/>
            <p:cNvSpPr/>
            <p:nvPr/>
          </p:nvSpPr>
          <p:spPr>
            <a:xfrm>
              <a:off x="31680" y="6093000"/>
              <a:ext cx="9144000" cy="768240"/>
            </a:xfrm>
            <a:custGeom>
              <a:avLst/>
              <a:gdLst/>
              <a:ahLst/>
              <a:rect l="l" t="t" r="r" b="b"/>
              <a:pathLst>
                <a:path w="9144000" h="907964">
                  <a:moveTo>
                    <a:pt x="151330" y="0"/>
                  </a:moveTo>
                  <a:lnTo>
                    <a:pt x="8992670" y="0"/>
                  </a:lnTo>
                  <a:lnTo>
                    <a:pt x="9144000" y="151330"/>
                  </a:lnTo>
                  <a:lnTo>
                    <a:pt x="9144000" y="907964"/>
                  </a:lnTo>
                  <a:lnTo>
                    <a:pt x="0" y="907964"/>
                  </a:lnTo>
                  <a:lnTo>
                    <a:pt x="0" y="151330"/>
                  </a:lnTo>
                  <a:cubicBezTo>
                    <a:pt x="0" y="67753"/>
                    <a:pt x="67753" y="0"/>
                    <a:pt x="151330" y="0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tângulo com Único Canto Aparado e Arredondado 5"/>
            <p:cNvSpPr/>
            <p:nvPr/>
          </p:nvSpPr>
          <p:spPr>
            <a:xfrm flipH="1">
              <a:off x="6654960" y="6116760"/>
              <a:ext cx="2520720" cy="768240"/>
            </a:xfrm>
            <a:custGeom>
              <a:avLst/>
              <a:gdLst/>
              <a:ahLst/>
              <a:rect l="l" t="t" r="r" b="b"/>
              <a:pathLst>
                <a:path w="2520950" h="907964">
                  <a:moveTo>
                    <a:pt x="151330" y="0"/>
                  </a:moveTo>
                  <a:lnTo>
                    <a:pt x="2369620" y="0"/>
                  </a:lnTo>
                  <a:lnTo>
                    <a:pt x="2520950" y="151330"/>
                  </a:lnTo>
                  <a:lnTo>
                    <a:pt x="2520950" y="907964"/>
                  </a:lnTo>
                  <a:lnTo>
                    <a:pt x="0" y="907964"/>
                  </a:lnTo>
                  <a:lnTo>
                    <a:pt x="0" y="151330"/>
                  </a:lnTo>
                  <a:cubicBezTo>
                    <a:pt x="0" y="67753"/>
                    <a:pt x="67753" y="0"/>
                    <a:pt x="151330" y="0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2" name="Imagem 12" descr=""/>
          <p:cNvPicPr/>
          <p:nvPr/>
        </p:nvPicPr>
        <p:blipFill>
          <a:blip r:embed="rId2"/>
          <a:stretch/>
        </p:blipFill>
        <p:spPr>
          <a:xfrm>
            <a:off x="6469200" y="6458040"/>
            <a:ext cx="2493720" cy="42696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1"/>
          <p:cNvSpPr/>
          <p:nvPr/>
        </p:nvSpPr>
        <p:spPr>
          <a:xfrm>
            <a:off x="1657440" y="252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tângulo 4"/>
          <p:cNvSpPr/>
          <p:nvPr/>
        </p:nvSpPr>
        <p:spPr>
          <a:xfrm>
            <a:off x="179280" y="1023840"/>
            <a:ext cx="8786880" cy="12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Apresentação e Análise dos dados/Estudo de cas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tângulo 1"/>
          <p:cNvSpPr/>
          <p:nvPr/>
        </p:nvSpPr>
        <p:spPr>
          <a:xfrm>
            <a:off x="611280" y="263700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"Marque abaixo qual das dificuldades você prevê que um recém formado passará após finalizar a graduação em Engenharia Civil?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Imagem 9" descr=""/>
          <p:cNvPicPr/>
          <p:nvPr/>
        </p:nvPicPr>
        <p:blipFill>
          <a:blip r:embed="rId3"/>
          <a:stretch/>
        </p:blipFill>
        <p:spPr>
          <a:xfrm>
            <a:off x="684360" y="3429000"/>
            <a:ext cx="7632720" cy="18702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187" name="Retângulo 2"/>
          <p:cNvSpPr/>
          <p:nvPr/>
        </p:nvSpPr>
        <p:spPr>
          <a:xfrm>
            <a:off x="611280" y="5445000"/>
            <a:ext cx="43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Gráfico 4 - Dificuldades previstas, p.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Espaço Reservado para Número de Slide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B58E6-21A5-431A-9591-790DFC2540F3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topo_saoMateus"/>
          <p:cNvPicPr/>
          <p:nvPr/>
        </p:nvPicPr>
        <p:blipFill>
          <a:blip r:embed="rId1"/>
          <a:stretch/>
        </p:blipFill>
        <p:spPr>
          <a:xfrm>
            <a:off x="179280" y="236520"/>
            <a:ext cx="8715600" cy="1104840"/>
          </a:xfrm>
          <a:prstGeom prst="rect">
            <a:avLst/>
          </a:prstGeom>
          <a:ln w="0">
            <a:noFill/>
          </a:ln>
        </p:spPr>
      </p:pic>
      <p:grpSp>
        <p:nvGrpSpPr>
          <p:cNvPr id="190" name="Grupo 3"/>
          <p:cNvGrpSpPr/>
          <p:nvPr/>
        </p:nvGrpSpPr>
        <p:grpSpPr>
          <a:xfrm>
            <a:off x="31680" y="6093000"/>
            <a:ext cx="9144000" cy="792000"/>
            <a:chOff x="31680" y="6093000"/>
            <a:chExt cx="9144000" cy="792000"/>
          </a:xfrm>
        </p:grpSpPr>
        <p:sp>
          <p:nvSpPr>
            <p:cNvPr id="191" name="Retângulo com Único Canto Aparado e Arredondado 4"/>
            <p:cNvSpPr/>
            <p:nvPr/>
          </p:nvSpPr>
          <p:spPr>
            <a:xfrm>
              <a:off x="31680" y="6093000"/>
              <a:ext cx="9144000" cy="768240"/>
            </a:xfrm>
            <a:custGeom>
              <a:avLst/>
              <a:gdLst/>
              <a:ahLst/>
              <a:rect l="l" t="t" r="r" b="b"/>
              <a:pathLst>
                <a:path w="9144000" h="907964">
                  <a:moveTo>
                    <a:pt x="151330" y="0"/>
                  </a:moveTo>
                  <a:lnTo>
                    <a:pt x="8992670" y="0"/>
                  </a:lnTo>
                  <a:lnTo>
                    <a:pt x="9144000" y="151330"/>
                  </a:lnTo>
                  <a:lnTo>
                    <a:pt x="9144000" y="907964"/>
                  </a:lnTo>
                  <a:lnTo>
                    <a:pt x="0" y="907964"/>
                  </a:lnTo>
                  <a:lnTo>
                    <a:pt x="0" y="151330"/>
                  </a:lnTo>
                  <a:cubicBezTo>
                    <a:pt x="0" y="67753"/>
                    <a:pt x="67753" y="0"/>
                    <a:pt x="151330" y="0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tângulo com Único Canto Aparado e Arredondado 5"/>
            <p:cNvSpPr/>
            <p:nvPr/>
          </p:nvSpPr>
          <p:spPr>
            <a:xfrm flipH="1">
              <a:off x="6654960" y="6116760"/>
              <a:ext cx="2520720" cy="768240"/>
            </a:xfrm>
            <a:custGeom>
              <a:avLst/>
              <a:gdLst/>
              <a:ahLst/>
              <a:rect l="l" t="t" r="r" b="b"/>
              <a:pathLst>
                <a:path w="2520950" h="907964">
                  <a:moveTo>
                    <a:pt x="151330" y="0"/>
                  </a:moveTo>
                  <a:lnTo>
                    <a:pt x="2369620" y="0"/>
                  </a:lnTo>
                  <a:lnTo>
                    <a:pt x="2520950" y="151330"/>
                  </a:lnTo>
                  <a:lnTo>
                    <a:pt x="2520950" y="907964"/>
                  </a:lnTo>
                  <a:lnTo>
                    <a:pt x="0" y="907964"/>
                  </a:lnTo>
                  <a:lnTo>
                    <a:pt x="0" y="151330"/>
                  </a:lnTo>
                  <a:cubicBezTo>
                    <a:pt x="0" y="67753"/>
                    <a:pt x="67753" y="0"/>
                    <a:pt x="151330" y="0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3" name="Imagem 12" descr=""/>
          <p:cNvPicPr/>
          <p:nvPr/>
        </p:nvPicPr>
        <p:blipFill>
          <a:blip r:embed="rId2"/>
          <a:stretch/>
        </p:blipFill>
        <p:spPr>
          <a:xfrm>
            <a:off x="6469200" y="6458040"/>
            <a:ext cx="2493720" cy="426960"/>
          </a:xfrm>
          <a:prstGeom prst="rect">
            <a:avLst/>
          </a:prstGeom>
          <a:ln w="0">
            <a:noFill/>
          </a:ln>
        </p:spPr>
      </p:pic>
      <p:sp>
        <p:nvSpPr>
          <p:cNvPr id="194" name="Retângulo 4"/>
          <p:cNvSpPr/>
          <p:nvPr/>
        </p:nvSpPr>
        <p:spPr>
          <a:xfrm>
            <a:off x="179280" y="1023840"/>
            <a:ext cx="8786880" cy="12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Apresentação e Análise dos dados/Estudo de cas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tângulo 1"/>
          <p:cNvSpPr/>
          <p:nvPr/>
        </p:nvSpPr>
        <p:spPr>
          <a:xfrm>
            <a:off x="468360" y="2637000"/>
            <a:ext cx="842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"Na sua opinião, descreva qual o principal desafio do engenheiro civil recém formado?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tângulo 2"/>
          <p:cNvSpPr/>
          <p:nvPr/>
        </p:nvSpPr>
        <p:spPr>
          <a:xfrm>
            <a:off x="2592360" y="3573360"/>
            <a:ext cx="45720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incipais desafios levantad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nseguranç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ercado de trabal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alta de experiê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Espaço Reservado para Número de Slide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08712-DE9E-4881-BC9C-9F7CEDE02FDD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topo_saoMateus"/>
          <p:cNvPicPr/>
          <p:nvPr/>
        </p:nvPicPr>
        <p:blipFill>
          <a:blip r:embed="rId1"/>
          <a:stretch/>
        </p:blipFill>
        <p:spPr>
          <a:xfrm>
            <a:off x="179280" y="236520"/>
            <a:ext cx="8715600" cy="1104840"/>
          </a:xfrm>
          <a:prstGeom prst="rect">
            <a:avLst/>
          </a:prstGeom>
          <a:ln w="0">
            <a:noFill/>
          </a:ln>
        </p:spPr>
      </p:pic>
      <p:grpSp>
        <p:nvGrpSpPr>
          <p:cNvPr id="199" name="Grupo 3"/>
          <p:cNvGrpSpPr/>
          <p:nvPr/>
        </p:nvGrpSpPr>
        <p:grpSpPr>
          <a:xfrm>
            <a:off x="31680" y="6093000"/>
            <a:ext cx="9144000" cy="792000"/>
            <a:chOff x="31680" y="6093000"/>
            <a:chExt cx="9144000" cy="792000"/>
          </a:xfrm>
        </p:grpSpPr>
        <p:sp>
          <p:nvSpPr>
            <p:cNvPr id="200" name="Retângulo com Único Canto Aparado e Arredondado 4"/>
            <p:cNvSpPr/>
            <p:nvPr/>
          </p:nvSpPr>
          <p:spPr>
            <a:xfrm>
              <a:off x="31680" y="6093000"/>
              <a:ext cx="9144000" cy="768240"/>
            </a:xfrm>
            <a:custGeom>
              <a:avLst/>
              <a:gdLst/>
              <a:ahLst/>
              <a:rect l="l" t="t" r="r" b="b"/>
              <a:pathLst>
                <a:path w="9144000" h="907964">
                  <a:moveTo>
                    <a:pt x="151330" y="0"/>
                  </a:moveTo>
                  <a:lnTo>
                    <a:pt x="8992670" y="0"/>
                  </a:lnTo>
                  <a:lnTo>
                    <a:pt x="9144000" y="151330"/>
                  </a:lnTo>
                  <a:lnTo>
                    <a:pt x="9144000" y="907964"/>
                  </a:lnTo>
                  <a:lnTo>
                    <a:pt x="0" y="907964"/>
                  </a:lnTo>
                  <a:lnTo>
                    <a:pt x="0" y="151330"/>
                  </a:lnTo>
                  <a:cubicBezTo>
                    <a:pt x="0" y="67753"/>
                    <a:pt x="67753" y="0"/>
                    <a:pt x="151330" y="0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tângulo com Único Canto Aparado e Arredondado 5"/>
            <p:cNvSpPr/>
            <p:nvPr/>
          </p:nvSpPr>
          <p:spPr>
            <a:xfrm flipH="1">
              <a:off x="6654960" y="6116760"/>
              <a:ext cx="2520720" cy="768240"/>
            </a:xfrm>
            <a:custGeom>
              <a:avLst/>
              <a:gdLst/>
              <a:ahLst/>
              <a:rect l="l" t="t" r="r" b="b"/>
              <a:pathLst>
                <a:path w="2520950" h="907964">
                  <a:moveTo>
                    <a:pt x="151330" y="0"/>
                  </a:moveTo>
                  <a:lnTo>
                    <a:pt x="2369620" y="0"/>
                  </a:lnTo>
                  <a:lnTo>
                    <a:pt x="2520950" y="151330"/>
                  </a:lnTo>
                  <a:lnTo>
                    <a:pt x="2520950" y="907964"/>
                  </a:lnTo>
                  <a:lnTo>
                    <a:pt x="0" y="907964"/>
                  </a:lnTo>
                  <a:lnTo>
                    <a:pt x="0" y="151330"/>
                  </a:lnTo>
                  <a:cubicBezTo>
                    <a:pt x="0" y="67753"/>
                    <a:pt x="67753" y="0"/>
                    <a:pt x="151330" y="0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2" name="Imagem 12" descr=""/>
          <p:cNvPicPr/>
          <p:nvPr/>
        </p:nvPicPr>
        <p:blipFill>
          <a:blip r:embed="rId2"/>
          <a:stretch/>
        </p:blipFill>
        <p:spPr>
          <a:xfrm>
            <a:off x="6469200" y="6458040"/>
            <a:ext cx="2493720" cy="42696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1"/>
          <p:cNvSpPr/>
          <p:nvPr/>
        </p:nvSpPr>
        <p:spPr>
          <a:xfrm>
            <a:off x="1657440" y="252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tângulo 4"/>
          <p:cNvSpPr/>
          <p:nvPr/>
        </p:nvSpPr>
        <p:spPr>
          <a:xfrm>
            <a:off x="179280" y="1023840"/>
            <a:ext cx="8786880" cy="12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Apresentação e Análise dos dados/Estudo de ca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tângulo 2"/>
          <p:cNvSpPr/>
          <p:nvPr/>
        </p:nvSpPr>
        <p:spPr>
          <a:xfrm>
            <a:off x="179280" y="2965320"/>
            <a:ext cx="871560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Descrever as experiências de engenheiros civis atuantes na área civil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Espaço Reservado para Número de Slide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3E0B4-0A52-446E-ADC3-63566F041684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topo_saoMateus"/>
          <p:cNvPicPr/>
          <p:nvPr/>
        </p:nvPicPr>
        <p:blipFill>
          <a:blip r:embed="rId1"/>
          <a:stretch/>
        </p:blipFill>
        <p:spPr>
          <a:xfrm>
            <a:off x="179280" y="236520"/>
            <a:ext cx="8715600" cy="1104840"/>
          </a:xfrm>
          <a:prstGeom prst="rect">
            <a:avLst/>
          </a:prstGeom>
          <a:ln w="0">
            <a:noFill/>
          </a:ln>
        </p:spPr>
      </p:pic>
      <p:grpSp>
        <p:nvGrpSpPr>
          <p:cNvPr id="56" name="Grupo 3"/>
          <p:cNvGrpSpPr/>
          <p:nvPr/>
        </p:nvGrpSpPr>
        <p:grpSpPr>
          <a:xfrm>
            <a:off x="31680" y="6093000"/>
            <a:ext cx="9144000" cy="792000"/>
            <a:chOff x="31680" y="6093000"/>
            <a:chExt cx="9144000" cy="792000"/>
          </a:xfrm>
        </p:grpSpPr>
        <p:sp>
          <p:nvSpPr>
            <p:cNvPr id="57" name="Retângulo com Único Canto Aparado e Arredondado 4"/>
            <p:cNvSpPr/>
            <p:nvPr/>
          </p:nvSpPr>
          <p:spPr>
            <a:xfrm>
              <a:off x="31680" y="6093000"/>
              <a:ext cx="9144000" cy="768240"/>
            </a:xfrm>
            <a:custGeom>
              <a:avLst/>
              <a:gdLst/>
              <a:ahLst/>
              <a:rect l="l" t="t" r="r" b="b"/>
              <a:pathLst>
                <a:path w="9144000" h="907964">
                  <a:moveTo>
                    <a:pt x="151330" y="0"/>
                  </a:moveTo>
                  <a:lnTo>
                    <a:pt x="8992670" y="0"/>
                  </a:lnTo>
                  <a:lnTo>
                    <a:pt x="9144000" y="151330"/>
                  </a:lnTo>
                  <a:lnTo>
                    <a:pt x="9144000" y="907964"/>
                  </a:lnTo>
                  <a:lnTo>
                    <a:pt x="0" y="907964"/>
                  </a:lnTo>
                  <a:lnTo>
                    <a:pt x="0" y="151330"/>
                  </a:lnTo>
                  <a:cubicBezTo>
                    <a:pt x="0" y="67753"/>
                    <a:pt x="67753" y="0"/>
                    <a:pt x="151330" y="0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tângulo com Único Canto Aparado e Arredondado 5"/>
            <p:cNvSpPr/>
            <p:nvPr/>
          </p:nvSpPr>
          <p:spPr>
            <a:xfrm flipH="1">
              <a:off x="6654960" y="6116760"/>
              <a:ext cx="2520720" cy="768240"/>
            </a:xfrm>
            <a:custGeom>
              <a:avLst/>
              <a:gdLst/>
              <a:ahLst/>
              <a:rect l="l" t="t" r="r" b="b"/>
              <a:pathLst>
                <a:path w="2520950" h="907964">
                  <a:moveTo>
                    <a:pt x="151330" y="0"/>
                  </a:moveTo>
                  <a:lnTo>
                    <a:pt x="2369620" y="0"/>
                  </a:lnTo>
                  <a:lnTo>
                    <a:pt x="2520950" y="151330"/>
                  </a:lnTo>
                  <a:lnTo>
                    <a:pt x="2520950" y="907964"/>
                  </a:lnTo>
                  <a:lnTo>
                    <a:pt x="0" y="907964"/>
                  </a:lnTo>
                  <a:lnTo>
                    <a:pt x="0" y="151330"/>
                  </a:lnTo>
                  <a:cubicBezTo>
                    <a:pt x="0" y="67753"/>
                    <a:pt x="67753" y="0"/>
                    <a:pt x="151330" y="0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" name="Imagem 12" descr=""/>
          <p:cNvPicPr/>
          <p:nvPr/>
        </p:nvPicPr>
        <p:blipFill>
          <a:blip r:embed="rId2"/>
          <a:stretch/>
        </p:blipFill>
        <p:spPr>
          <a:xfrm>
            <a:off x="6469200" y="6458040"/>
            <a:ext cx="2493720" cy="42696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1"/>
          <p:cNvSpPr/>
          <p:nvPr/>
        </p:nvSpPr>
        <p:spPr>
          <a:xfrm>
            <a:off x="1657440" y="252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tângulo 4"/>
          <p:cNvSpPr/>
          <p:nvPr/>
        </p:nvSpPr>
        <p:spPr>
          <a:xfrm>
            <a:off x="179280" y="1023840"/>
            <a:ext cx="8786880" cy="46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OS DESAFIOS DOS ENGENHEIROS CIVIS RECÉM-FORMADOS: ESTUDO DE CASO DA FACULDADE NORTE CAPIXABA DE SÃO MATEU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trod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Referencial Teór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Apresentação e Análise de Dados/Estudo de Ca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Conclusão e Recomend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Referências Bibliográfic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Espaço Reservado para Número de Slide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A540D-8D69-436E-98FF-EC3E553066BA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topo_saoMateus"/>
          <p:cNvPicPr/>
          <p:nvPr/>
        </p:nvPicPr>
        <p:blipFill>
          <a:blip r:embed="rId1"/>
          <a:stretch/>
        </p:blipFill>
        <p:spPr>
          <a:xfrm>
            <a:off x="179280" y="236520"/>
            <a:ext cx="8715600" cy="1104840"/>
          </a:xfrm>
          <a:prstGeom prst="rect">
            <a:avLst/>
          </a:prstGeom>
          <a:ln w="0">
            <a:noFill/>
          </a:ln>
        </p:spPr>
      </p:pic>
      <p:grpSp>
        <p:nvGrpSpPr>
          <p:cNvPr id="208" name="Grupo 3"/>
          <p:cNvGrpSpPr/>
          <p:nvPr/>
        </p:nvGrpSpPr>
        <p:grpSpPr>
          <a:xfrm>
            <a:off x="31680" y="6093000"/>
            <a:ext cx="9144000" cy="792000"/>
            <a:chOff x="31680" y="6093000"/>
            <a:chExt cx="9144000" cy="792000"/>
          </a:xfrm>
        </p:grpSpPr>
        <p:sp>
          <p:nvSpPr>
            <p:cNvPr id="209" name="Retângulo com Único Canto Aparado e Arredondado 4"/>
            <p:cNvSpPr/>
            <p:nvPr/>
          </p:nvSpPr>
          <p:spPr>
            <a:xfrm>
              <a:off x="31680" y="6093000"/>
              <a:ext cx="9144000" cy="768240"/>
            </a:xfrm>
            <a:custGeom>
              <a:avLst/>
              <a:gdLst/>
              <a:ahLst/>
              <a:rect l="l" t="t" r="r" b="b"/>
              <a:pathLst>
                <a:path w="9144000" h="907964">
                  <a:moveTo>
                    <a:pt x="151330" y="0"/>
                  </a:moveTo>
                  <a:lnTo>
                    <a:pt x="8992670" y="0"/>
                  </a:lnTo>
                  <a:lnTo>
                    <a:pt x="9144000" y="151330"/>
                  </a:lnTo>
                  <a:lnTo>
                    <a:pt x="9144000" y="907964"/>
                  </a:lnTo>
                  <a:lnTo>
                    <a:pt x="0" y="907964"/>
                  </a:lnTo>
                  <a:lnTo>
                    <a:pt x="0" y="151330"/>
                  </a:lnTo>
                  <a:cubicBezTo>
                    <a:pt x="0" y="67753"/>
                    <a:pt x="67753" y="0"/>
                    <a:pt x="151330" y="0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tângulo com Único Canto Aparado e Arredondado 5"/>
            <p:cNvSpPr/>
            <p:nvPr/>
          </p:nvSpPr>
          <p:spPr>
            <a:xfrm flipH="1">
              <a:off x="6654960" y="6116760"/>
              <a:ext cx="2520720" cy="768240"/>
            </a:xfrm>
            <a:custGeom>
              <a:avLst/>
              <a:gdLst/>
              <a:ahLst/>
              <a:rect l="l" t="t" r="r" b="b"/>
              <a:pathLst>
                <a:path w="2520950" h="907964">
                  <a:moveTo>
                    <a:pt x="151330" y="0"/>
                  </a:moveTo>
                  <a:lnTo>
                    <a:pt x="2369620" y="0"/>
                  </a:lnTo>
                  <a:lnTo>
                    <a:pt x="2520950" y="151330"/>
                  </a:lnTo>
                  <a:lnTo>
                    <a:pt x="2520950" y="907964"/>
                  </a:lnTo>
                  <a:lnTo>
                    <a:pt x="0" y="907964"/>
                  </a:lnTo>
                  <a:lnTo>
                    <a:pt x="0" y="151330"/>
                  </a:lnTo>
                  <a:cubicBezTo>
                    <a:pt x="0" y="67753"/>
                    <a:pt x="67753" y="0"/>
                    <a:pt x="151330" y="0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1" name="Imagem 12" descr=""/>
          <p:cNvPicPr/>
          <p:nvPr/>
        </p:nvPicPr>
        <p:blipFill>
          <a:blip r:embed="rId2"/>
          <a:stretch/>
        </p:blipFill>
        <p:spPr>
          <a:xfrm>
            <a:off x="6469200" y="6458040"/>
            <a:ext cx="2493720" cy="426960"/>
          </a:xfrm>
          <a:prstGeom prst="rect">
            <a:avLst/>
          </a:prstGeom>
          <a:ln w="0">
            <a:noFill/>
          </a:ln>
        </p:spPr>
      </p:pic>
      <p:sp>
        <p:nvSpPr>
          <p:cNvPr id="212" name="Retângulo 4"/>
          <p:cNvSpPr/>
          <p:nvPr/>
        </p:nvSpPr>
        <p:spPr>
          <a:xfrm>
            <a:off x="179280" y="1023840"/>
            <a:ext cx="8786880" cy="12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Apresentação e Análise dos dados/Estudo de cas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tângulo 1"/>
          <p:cNvSpPr/>
          <p:nvPr/>
        </p:nvSpPr>
        <p:spPr>
          <a:xfrm>
            <a:off x="179280" y="2771640"/>
            <a:ext cx="871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"Houve insegurança ao ingressar no mercado de trabalho?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Imagem 9" descr=""/>
          <p:cNvPicPr/>
          <p:nvPr/>
        </p:nvPicPr>
        <p:blipFill>
          <a:blip r:embed="rId3"/>
          <a:stretch/>
        </p:blipFill>
        <p:spPr>
          <a:xfrm>
            <a:off x="395280" y="3141720"/>
            <a:ext cx="8137440" cy="22320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215" name="Retângulo 2"/>
          <p:cNvSpPr/>
          <p:nvPr/>
        </p:nvSpPr>
        <p:spPr>
          <a:xfrm>
            <a:off x="395280" y="5402160"/>
            <a:ext cx="799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Gráfico 5 - Análise dos profissionais quanto a sua ingressão no mercado, p.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ço Reservado para Número de Slide 1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E7E84-7B0B-4F6A-943E-60E99F6F9924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topo_saoMateus"/>
          <p:cNvPicPr/>
          <p:nvPr/>
        </p:nvPicPr>
        <p:blipFill>
          <a:blip r:embed="rId1"/>
          <a:stretch/>
        </p:blipFill>
        <p:spPr>
          <a:xfrm>
            <a:off x="179280" y="236520"/>
            <a:ext cx="8715600" cy="1104840"/>
          </a:xfrm>
          <a:prstGeom prst="rect">
            <a:avLst/>
          </a:prstGeom>
          <a:ln w="0">
            <a:noFill/>
          </a:ln>
        </p:spPr>
      </p:pic>
      <p:grpSp>
        <p:nvGrpSpPr>
          <p:cNvPr id="218" name="Grupo 3"/>
          <p:cNvGrpSpPr/>
          <p:nvPr/>
        </p:nvGrpSpPr>
        <p:grpSpPr>
          <a:xfrm>
            <a:off x="31680" y="6093000"/>
            <a:ext cx="9144000" cy="792000"/>
            <a:chOff x="31680" y="6093000"/>
            <a:chExt cx="9144000" cy="792000"/>
          </a:xfrm>
        </p:grpSpPr>
        <p:sp>
          <p:nvSpPr>
            <p:cNvPr id="219" name="Retângulo com Único Canto Aparado e Arredondado 4"/>
            <p:cNvSpPr/>
            <p:nvPr/>
          </p:nvSpPr>
          <p:spPr>
            <a:xfrm>
              <a:off x="31680" y="6093000"/>
              <a:ext cx="9144000" cy="768240"/>
            </a:xfrm>
            <a:custGeom>
              <a:avLst/>
              <a:gdLst/>
              <a:ahLst/>
              <a:rect l="l" t="t" r="r" b="b"/>
              <a:pathLst>
                <a:path w="9144000" h="907964">
                  <a:moveTo>
                    <a:pt x="151330" y="0"/>
                  </a:moveTo>
                  <a:lnTo>
                    <a:pt x="8992670" y="0"/>
                  </a:lnTo>
                  <a:lnTo>
                    <a:pt x="9144000" y="151330"/>
                  </a:lnTo>
                  <a:lnTo>
                    <a:pt x="9144000" y="907964"/>
                  </a:lnTo>
                  <a:lnTo>
                    <a:pt x="0" y="907964"/>
                  </a:lnTo>
                  <a:lnTo>
                    <a:pt x="0" y="151330"/>
                  </a:lnTo>
                  <a:cubicBezTo>
                    <a:pt x="0" y="67753"/>
                    <a:pt x="67753" y="0"/>
                    <a:pt x="151330" y="0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tângulo com Único Canto Aparado e Arredondado 5"/>
            <p:cNvSpPr/>
            <p:nvPr/>
          </p:nvSpPr>
          <p:spPr>
            <a:xfrm flipH="1">
              <a:off x="6654960" y="6116760"/>
              <a:ext cx="2520720" cy="768240"/>
            </a:xfrm>
            <a:custGeom>
              <a:avLst/>
              <a:gdLst/>
              <a:ahLst/>
              <a:rect l="l" t="t" r="r" b="b"/>
              <a:pathLst>
                <a:path w="2520950" h="907964">
                  <a:moveTo>
                    <a:pt x="151330" y="0"/>
                  </a:moveTo>
                  <a:lnTo>
                    <a:pt x="2369620" y="0"/>
                  </a:lnTo>
                  <a:lnTo>
                    <a:pt x="2520950" y="151330"/>
                  </a:lnTo>
                  <a:lnTo>
                    <a:pt x="2520950" y="907964"/>
                  </a:lnTo>
                  <a:lnTo>
                    <a:pt x="0" y="907964"/>
                  </a:lnTo>
                  <a:lnTo>
                    <a:pt x="0" y="151330"/>
                  </a:lnTo>
                  <a:cubicBezTo>
                    <a:pt x="0" y="67753"/>
                    <a:pt x="67753" y="0"/>
                    <a:pt x="151330" y="0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1" name="Imagem 12" descr=""/>
          <p:cNvPicPr/>
          <p:nvPr/>
        </p:nvPicPr>
        <p:blipFill>
          <a:blip r:embed="rId2"/>
          <a:stretch/>
        </p:blipFill>
        <p:spPr>
          <a:xfrm>
            <a:off x="6469200" y="6458040"/>
            <a:ext cx="2493720" cy="426960"/>
          </a:xfrm>
          <a:prstGeom prst="rect">
            <a:avLst/>
          </a:prstGeom>
          <a:ln w="0">
            <a:noFill/>
          </a:ln>
        </p:spPr>
      </p:pic>
      <p:sp>
        <p:nvSpPr>
          <p:cNvPr id="222" name="Retângulo 4"/>
          <p:cNvSpPr/>
          <p:nvPr/>
        </p:nvSpPr>
        <p:spPr>
          <a:xfrm>
            <a:off x="179280" y="1023840"/>
            <a:ext cx="8786880" cy="12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Apresentação e Análise dos dados/Estudo de cas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tângulo 1"/>
          <p:cNvSpPr/>
          <p:nvPr/>
        </p:nvSpPr>
        <p:spPr>
          <a:xfrm>
            <a:off x="179280" y="2494080"/>
            <a:ext cx="871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"Para você o que é fundamental para o crescimento individual do engenheiro(a) civil?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Imagem 9" descr=""/>
          <p:cNvPicPr/>
          <p:nvPr/>
        </p:nvPicPr>
        <p:blipFill>
          <a:blip r:embed="rId3"/>
          <a:stretch/>
        </p:blipFill>
        <p:spPr>
          <a:xfrm>
            <a:off x="324000" y="3141720"/>
            <a:ext cx="8135640" cy="20160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225" name="Retângulo 2"/>
          <p:cNvSpPr/>
          <p:nvPr/>
        </p:nvSpPr>
        <p:spPr>
          <a:xfrm>
            <a:off x="324000" y="5300640"/>
            <a:ext cx="813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Gráfico 9 - Fator importante para o crescimento do engenheiro, p.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Espaço Reservado para Número de Slide 1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99139-BAF0-4FF5-BBDB-60025E6F9204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topo_saoMateus"/>
          <p:cNvPicPr/>
          <p:nvPr/>
        </p:nvPicPr>
        <p:blipFill>
          <a:blip r:embed="rId1"/>
          <a:stretch/>
        </p:blipFill>
        <p:spPr>
          <a:xfrm>
            <a:off x="179280" y="236520"/>
            <a:ext cx="8715600" cy="1104840"/>
          </a:xfrm>
          <a:prstGeom prst="rect">
            <a:avLst/>
          </a:prstGeom>
          <a:ln w="0">
            <a:noFill/>
          </a:ln>
        </p:spPr>
      </p:pic>
      <p:grpSp>
        <p:nvGrpSpPr>
          <p:cNvPr id="228" name="Grupo 3"/>
          <p:cNvGrpSpPr/>
          <p:nvPr/>
        </p:nvGrpSpPr>
        <p:grpSpPr>
          <a:xfrm>
            <a:off x="31680" y="6093000"/>
            <a:ext cx="9144000" cy="792000"/>
            <a:chOff x="31680" y="6093000"/>
            <a:chExt cx="9144000" cy="792000"/>
          </a:xfrm>
        </p:grpSpPr>
        <p:sp>
          <p:nvSpPr>
            <p:cNvPr id="229" name="Retângulo com Único Canto Aparado e Arredondado 4"/>
            <p:cNvSpPr/>
            <p:nvPr/>
          </p:nvSpPr>
          <p:spPr>
            <a:xfrm>
              <a:off x="31680" y="6093000"/>
              <a:ext cx="9144000" cy="768240"/>
            </a:xfrm>
            <a:custGeom>
              <a:avLst/>
              <a:gdLst/>
              <a:ahLst/>
              <a:rect l="l" t="t" r="r" b="b"/>
              <a:pathLst>
                <a:path w="9144000" h="907964">
                  <a:moveTo>
                    <a:pt x="151330" y="0"/>
                  </a:moveTo>
                  <a:lnTo>
                    <a:pt x="8992670" y="0"/>
                  </a:lnTo>
                  <a:lnTo>
                    <a:pt x="9144000" y="151330"/>
                  </a:lnTo>
                  <a:lnTo>
                    <a:pt x="9144000" y="907964"/>
                  </a:lnTo>
                  <a:lnTo>
                    <a:pt x="0" y="907964"/>
                  </a:lnTo>
                  <a:lnTo>
                    <a:pt x="0" y="151330"/>
                  </a:lnTo>
                  <a:cubicBezTo>
                    <a:pt x="0" y="67753"/>
                    <a:pt x="67753" y="0"/>
                    <a:pt x="151330" y="0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tângulo com Único Canto Aparado e Arredondado 5"/>
            <p:cNvSpPr/>
            <p:nvPr/>
          </p:nvSpPr>
          <p:spPr>
            <a:xfrm flipH="1">
              <a:off x="6654960" y="6116760"/>
              <a:ext cx="2520720" cy="768240"/>
            </a:xfrm>
            <a:custGeom>
              <a:avLst/>
              <a:gdLst/>
              <a:ahLst/>
              <a:rect l="l" t="t" r="r" b="b"/>
              <a:pathLst>
                <a:path w="2520950" h="907964">
                  <a:moveTo>
                    <a:pt x="151330" y="0"/>
                  </a:moveTo>
                  <a:lnTo>
                    <a:pt x="2369620" y="0"/>
                  </a:lnTo>
                  <a:lnTo>
                    <a:pt x="2520950" y="151330"/>
                  </a:lnTo>
                  <a:lnTo>
                    <a:pt x="2520950" y="907964"/>
                  </a:lnTo>
                  <a:lnTo>
                    <a:pt x="0" y="907964"/>
                  </a:lnTo>
                  <a:lnTo>
                    <a:pt x="0" y="151330"/>
                  </a:lnTo>
                  <a:cubicBezTo>
                    <a:pt x="0" y="67753"/>
                    <a:pt x="67753" y="0"/>
                    <a:pt x="151330" y="0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1" name="Imagem 12" descr=""/>
          <p:cNvPicPr/>
          <p:nvPr/>
        </p:nvPicPr>
        <p:blipFill>
          <a:blip r:embed="rId2"/>
          <a:stretch/>
        </p:blipFill>
        <p:spPr>
          <a:xfrm>
            <a:off x="6469200" y="6458040"/>
            <a:ext cx="2493720" cy="42696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1"/>
          <p:cNvSpPr/>
          <p:nvPr/>
        </p:nvSpPr>
        <p:spPr>
          <a:xfrm>
            <a:off x="1657440" y="252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tângulo 4"/>
          <p:cNvSpPr/>
          <p:nvPr/>
        </p:nvSpPr>
        <p:spPr>
          <a:xfrm>
            <a:off x="179280" y="1023840"/>
            <a:ext cx="8786880" cy="12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Apresentação e Análise dos dados/Estudo de cas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tângulo 1"/>
          <p:cNvSpPr/>
          <p:nvPr/>
        </p:nvSpPr>
        <p:spPr>
          <a:xfrm>
            <a:off x="179280" y="2638440"/>
            <a:ext cx="871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"Marque abaixo qual das dificuldades você passou após finalizar a graduação em Engenharia Civil.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Imagem 9" descr=""/>
          <p:cNvPicPr/>
          <p:nvPr/>
        </p:nvPicPr>
        <p:blipFill>
          <a:blip r:embed="rId3"/>
          <a:stretch/>
        </p:blipFill>
        <p:spPr>
          <a:xfrm>
            <a:off x="252360" y="3429000"/>
            <a:ext cx="8352000" cy="18716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236" name="Retângulo 2"/>
          <p:cNvSpPr/>
          <p:nvPr/>
        </p:nvSpPr>
        <p:spPr>
          <a:xfrm>
            <a:off x="255960" y="5445000"/>
            <a:ext cx="357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Gráfico 10 - Dificuldades enfrentadas, p.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Espaço Reservado para Número de Slide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1622D-95A9-41F6-B8E9-4098EBE6272B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topo_saoMateus"/>
          <p:cNvPicPr/>
          <p:nvPr/>
        </p:nvPicPr>
        <p:blipFill>
          <a:blip r:embed="rId1"/>
          <a:stretch/>
        </p:blipFill>
        <p:spPr>
          <a:xfrm>
            <a:off x="179280" y="236520"/>
            <a:ext cx="8715600" cy="1104840"/>
          </a:xfrm>
          <a:prstGeom prst="rect">
            <a:avLst/>
          </a:prstGeom>
          <a:ln w="0">
            <a:noFill/>
          </a:ln>
        </p:spPr>
      </p:pic>
      <p:grpSp>
        <p:nvGrpSpPr>
          <p:cNvPr id="239" name="Grupo 3"/>
          <p:cNvGrpSpPr/>
          <p:nvPr/>
        </p:nvGrpSpPr>
        <p:grpSpPr>
          <a:xfrm>
            <a:off x="31680" y="6093000"/>
            <a:ext cx="9144000" cy="792000"/>
            <a:chOff x="31680" y="6093000"/>
            <a:chExt cx="9144000" cy="792000"/>
          </a:xfrm>
        </p:grpSpPr>
        <p:sp>
          <p:nvSpPr>
            <p:cNvPr id="240" name="Retângulo com Único Canto Aparado e Arredondado 4"/>
            <p:cNvSpPr/>
            <p:nvPr/>
          </p:nvSpPr>
          <p:spPr>
            <a:xfrm>
              <a:off x="31680" y="6093000"/>
              <a:ext cx="9144000" cy="768240"/>
            </a:xfrm>
            <a:custGeom>
              <a:avLst/>
              <a:gdLst/>
              <a:ahLst/>
              <a:rect l="l" t="t" r="r" b="b"/>
              <a:pathLst>
                <a:path w="9144000" h="907964">
                  <a:moveTo>
                    <a:pt x="151330" y="0"/>
                  </a:moveTo>
                  <a:lnTo>
                    <a:pt x="8992670" y="0"/>
                  </a:lnTo>
                  <a:lnTo>
                    <a:pt x="9144000" y="151330"/>
                  </a:lnTo>
                  <a:lnTo>
                    <a:pt x="9144000" y="907964"/>
                  </a:lnTo>
                  <a:lnTo>
                    <a:pt x="0" y="907964"/>
                  </a:lnTo>
                  <a:lnTo>
                    <a:pt x="0" y="151330"/>
                  </a:lnTo>
                  <a:cubicBezTo>
                    <a:pt x="0" y="67753"/>
                    <a:pt x="67753" y="0"/>
                    <a:pt x="151330" y="0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tângulo com Único Canto Aparado e Arredondado 5"/>
            <p:cNvSpPr/>
            <p:nvPr/>
          </p:nvSpPr>
          <p:spPr>
            <a:xfrm flipH="1">
              <a:off x="6654960" y="6116760"/>
              <a:ext cx="2520720" cy="768240"/>
            </a:xfrm>
            <a:custGeom>
              <a:avLst/>
              <a:gdLst/>
              <a:ahLst/>
              <a:rect l="l" t="t" r="r" b="b"/>
              <a:pathLst>
                <a:path w="2520950" h="907964">
                  <a:moveTo>
                    <a:pt x="151330" y="0"/>
                  </a:moveTo>
                  <a:lnTo>
                    <a:pt x="2369620" y="0"/>
                  </a:lnTo>
                  <a:lnTo>
                    <a:pt x="2520950" y="151330"/>
                  </a:lnTo>
                  <a:lnTo>
                    <a:pt x="2520950" y="907964"/>
                  </a:lnTo>
                  <a:lnTo>
                    <a:pt x="0" y="907964"/>
                  </a:lnTo>
                  <a:lnTo>
                    <a:pt x="0" y="151330"/>
                  </a:lnTo>
                  <a:cubicBezTo>
                    <a:pt x="0" y="67753"/>
                    <a:pt x="67753" y="0"/>
                    <a:pt x="151330" y="0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2" name="Imagem 12" descr=""/>
          <p:cNvPicPr/>
          <p:nvPr/>
        </p:nvPicPr>
        <p:blipFill>
          <a:blip r:embed="rId2"/>
          <a:stretch/>
        </p:blipFill>
        <p:spPr>
          <a:xfrm>
            <a:off x="6469200" y="6458040"/>
            <a:ext cx="2493720" cy="426960"/>
          </a:xfrm>
          <a:prstGeom prst="rect">
            <a:avLst/>
          </a:prstGeom>
          <a:ln w="0">
            <a:noFill/>
          </a:ln>
        </p:spPr>
      </p:pic>
      <p:sp>
        <p:nvSpPr>
          <p:cNvPr id="243" name="Retângulo 4"/>
          <p:cNvSpPr/>
          <p:nvPr/>
        </p:nvSpPr>
        <p:spPr>
          <a:xfrm>
            <a:off x="179280" y="1023840"/>
            <a:ext cx="8786880" cy="12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Apresentação e Análise dos dados/Estudo de cas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tângulo 1"/>
          <p:cNvSpPr/>
          <p:nvPr/>
        </p:nvSpPr>
        <p:spPr>
          <a:xfrm>
            <a:off x="179280" y="2708280"/>
            <a:ext cx="871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"Baseado na sua experiência como engenheiro civil, qual conselho daria para os recém-formados?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tângulo 2"/>
          <p:cNvSpPr/>
          <p:nvPr/>
        </p:nvSpPr>
        <p:spPr>
          <a:xfrm>
            <a:off x="2376360" y="3502080"/>
            <a:ext cx="4572000" cy="24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incipais conselh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ersistência nos seus 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Busca contínua de aprendiz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r humil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Ética profiss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Espaço Reservado para Número de Slide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AD503-F0FF-4793-8ACC-7414230B8960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topo_saoMateus"/>
          <p:cNvPicPr/>
          <p:nvPr/>
        </p:nvPicPr>
        <p:blipFill>
          <a:blip r:embed="rId1"/>
          <a:stretch/>
        </p:blipFill>
        <p:spPr>
          <a:xfrm>
            <a:off x="179280" y="236520"/>
            <a:ext cx="8715600" cy="1104840"/>
          </a:xfrm>
          <a:prstGeom prst="rect">
            <a:avLst/>
          </a:prstGeom>
          <a:ln w="0">
            <a:noFill/>
          </a:ln>
        </p:spPr>
      </p:pic>
      <p:grpSp>
        <p:nvGrpSpPr>
          <p:cNvPr id="248" name="Grupo 3"/>
          <p:cNvGrpSpPr/>
          <p:nvPr/>
        </p:nvGrpSpPr>
        <p:grpSpPr>
          <a:xfrm>
            <a:off x="31680" y="6093000"/>
            <a:ext cx="9144000" cy="792000"/>
            <a:chOff x="31680" y="6093000"/>
            <a:chExt cx="9144000" cy="792000"/>
          </a:xfrm>
        </p:grpSpPr>
        <p:sp>
          <p:nvSpPr>
            <p:cNvPr id="249" name="Retângulo com Único Canto Aparado e Arredondado 4"/>
            <p:cNvSpPr/>
            <p:nvPr/>
          </p:nvSpPr>
          <p:spPr>
            <a:xfrm>
              <a:off x="31680" y="6093000"/>
              <a:ext cx="9144000" cy="768240"/>
            </a:xfrm>
            <a:custGeom>
              <a:avLst/>
              <a:gdLst/>
              <a:ahLst/>
              <a:rect l="l" t="t" r="r" b="b"/>
              <a:pathLst>
                <a:path w="9144000" h="907964">
                  <a:moveTo>
                    <a:pt x="151330" y="0"/>
                  </a:moveTo>
                  <a:lnTo>
                    <a:pt x="8992670" y="0"/>
                  </a:lnTo>
                  <a:lnTo>
                    <a:pt x="9144000" y="151330"/>
                  </a:lnTo>
                  <a:lnTo>
                    <a:pt x="9144000" y="907964"/>
                  </a:lnTo>
                  <a:lnTo>
                    <a:pt x="0" y="907964"/>
                  </a:lnTo>
                  <a:lnTo>
                    <a:pt x="0" y="151330"/>
                  </a:lnTo>
                  <a:cubicBezTo>
                    <a:pt x="0" y="67753"/>
                    <a:pt x="67753" y="0"/>
                    <a:pt x="151330" y="0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tângulo com Único Canto Aparado e Arredondado 5"/>
            <p:cNvSpPr/>
            <p:nvPr/>
          </p:nvSpPr>
          <p:spPr>
            <a:xfrm flipH="1">
              <a:off x="6654960" y="6116760"/>
              <a:ext cx="2520720" cy="768240"/>
            </a:xfrm>
            <a:custGeom>
              <a:avLst/>
              <a:gdLst/>
              <a:ahLst/>
              <a:rect l="l" t="t" r="r" b="b"/>
              <a:pathLst>
                <a:path w="2520950" h="907964">
                  <a:moveTo>
                    <a:pt x="151330" y="0"/>
                  </a:moveTo>
                  <a:lnTo>
                    <a:pt x="2369620" y="0"/>
                  </a:lnTo>
                  <a:lnTo>
                    <a:pt x="2520950" y="151330"/>
                  </a:lnTo>
                  <a:lnTo>
                    <a:pt x="2520950" y="907964"/>
                  </a:lnTo>
                  <a:lnTo>
                    <a:pt x="0" y="907964"/>
                  </a:lnTo>
                  <a:lnTo>
                    <a:pt x="0" y="151330"/>
                  </a:lnTo>
                  <a:cubicBezTo>
                    <a:pt x="0" y="67753"/>
                    <a:pt x="67753" y="0"/>
                    <a:pt x="151330" y="0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1" name="Imagem 12" descr=""/>
          <p:cNvPicPr/>
          <p:nvPr/>
        </p:nvPicPr>
        <p:blipFill>
          <a:blip r:embed="rId2"/>
          <a:stretch/>
        </p:blipFill>
        <p:spPr>
          <a:xfrm>
            <a:off x="6469200" y="6458040"/>
            <a:ext cx="2493720" cy="426960"/>
          </a:xfrm>
          <a:prstGeom prst="rect">
            <a:avLst/>
          </a:prstGeom>
          <a:ln w="0">
            <a:noFill/>
          </a:ln>
        </p:spPr>
      </p:pic>
      <p:sp>
        <p:nvSpPr>
          <p:cNvPr id="252" name="Retângulo 4"/>
          <p:cNvSpPr/>
          <p:nvPr/>
        </p:nvSpPr>
        <p:spPr>
          <a:xfrm>
            <a:off x="179280" y="1023840"/>
            <a:ext cx="8786880" cy="12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Apresentação e Análise dos dados/Estudo de cas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tângulo 1"/>
          <p:cNvSpPr/>
          <p:nvPr/>
        </p:nvSpPr>
        <p:spPr>
          <a:xfrm>
            <a:off x="179280" y="2637000"/>
            <a:ext cx="667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"Qual o principal desafio do engenheiro civil?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tângulo 2"/>
          <p:cNvSpPr/>
          <p:nvPr/>
        </p:nvSpPr>
        <p:spPr>
          <a:xfrm>
            <a:off x="2664000" y="3511440"/>
            <a:ext cx="4572000" cy="20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incipais desafi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portun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nfrentar os me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alorizar a profiss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Espaço Reservado para Número de Slide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498BD-74B5-437F-9C0C-3367812FDA39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topo_saoMateus"/>
          <p:cNvPicPr/>
          <p:nvPr/>
        </p:nvPicPr>
        <p:blipFill>
          <a:blip r:embed="rId1"/>
          <a:stretch/>
        </p:blipFill>
        <p:spPr>
          <a:xfrm>
            <a:off x="179280" y="236520"/>
            <a:ext cx="8715600" cy="1104840"/>
          </a:xfrm>
          <a:prstGeom prst="rect">
            <a:avLst/>
          </a:prstGeom>
          <a:ln w="0">
            <a:noFill/>
          </a:ln>
        </p:spPr>
      </p:pic>
      <p:grpSp>
        <p:nvGrpSpPr>
          <p:cNvPr id="257" name="Grupo 3"/>
          <p:cNvGrpSpPr/>
          <p:nvPr/>
        </p:nvGrpSpPr>
        <p:grpSpPr>
          <a:xfrm>
            <a:off x="31680" y="6093000"/>
            <a:ext cx="9144000" cy="792000"/>
            <a:chOff x="31680" y="6093000"/>
            <a:chExt cx="9144000" cy="792000"/>
          </a:xfrm>
        </p:grpSpPr>
        <p:sp>
          <p:nvSpPr>
            <p:cNvPr id="258" name="Retângulo com Único Canto Aparado e Arredondado 4"/>
            <p:cNvSpPr/>
            <p:nvPr/>
          </p:nvSpPr>
          <p:spPr>
            <a:xfrm>
              <a:off x="31680" y="6093000"/>
              <a:ext cx="9144000" cy="768240"/>
            </a:xfrm>
            <a:custGeom>
              <a:avLst/>
              <a:gdLst/>
              <a:ahLst/>
              <a:rect l="l" t="t" r="r" b="b"/>
              <a:pathLst>
                <a:path w="9144000" h="907964">
                  <a:moveTo>
                    <a:pt x="151330" y="0"/>
                  </a:moveTo>
                  <a:lnTo>
                    <a:pt x="8992670" y="0"/>
                  </a:lnTo>
                  <a:lnTo>
                    <a:pt x="9144000" y="151330"/>
                  </a:lnTo>
                  <a:lnTo>
                    <a:pt x="9144000" y="907964"/>
                  </a:lnTo>
                  <a:lnTo>
                    <a:pt x="0" y="907964"/>
                  </a:lnTo>
                  <a:lnTo>
                    <a:pt x="0" y="151330"/>
                  </a:lnTo>
                  <a:cubicBezTo>
                    <a:pt x="0" y="67753"/>
                    <a:pt x="67753" y="0"/>
                    <a:pt x="151330" y="0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tângulo com Único Canto Aparado e Arredondado 5"/>
            <p:cNvSpPr/>
            <p:nvPr/>
          </p:nvSpPr>
          <p:spPr>
            <a:xfrm flipH="1">
              <a:off x="6654960" y="6116760"/>
              <a:ext cx="2520720" cy="768240"/>
            </a:xfrm>
            <a:custGeom>
              <a:avLst/>
              <a:gdLst/>
              <a:ahLst/>
              <a:rect l="l" t="t" r="r" b="b"/>
              <a:pathLst>
                <a:path w="2520950" h="907964">
                  <a:moveTo>
                    <a:pt x="151330" y="0"/>
                  </a:moveTo>
                  <a:lnTo>
                    <a:pt x="2369620" y="0"/>
                  </a:lnTo>
                  <a:lnTo>
                    <a:pt x="2520950" y="151330"/>
                  </a:lnTo>
                  <a:lnTo>
                    <a:pt x="2520950" y="907964"/>
                  </a:lnTo>
                  <a:lnTo>
                    <a:pt x="0" y="907964"/>
                  </a:lnTo>
                  <a:lnTo>
                    <a:pt x="0" y="151330"/>
                  </a:lnTo>
                  <a:cubicBezTo>
                    <a:pt x="0" y="67753"/>
                    <a:pt x="67753" y="0"/>
                    <a:pt x="151330" y="0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0" name="Imagem 12" descr=""/>
          <p:cNvPicPr/>
          <p:nvPr/>
        </p:nvPicPr>
        <p:blipFill>
          <a:blip r:embed="rId2"/>
          <a:stretch/>
        </p:blipFill>
        <p:spPr>
          <a:xfrm>
            <a:off x="6469200" y="6458040"/>
            <a:ext cx="2493720" cy="42696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1"/>
          <p:cNvSpPr/>
          <p:nvPr/>
        </p:nvSpPr>
        <p:spPr>
          <a:xfrm>
            <a:off x="1657440" y="252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tângulo 4"/>
          <p:cNvSpPr/>
          <p:nvPr/>
        </p:nvSpPr>
        <p:spPr>
          <a:xfrm>
            <a:off x="179280" y="1023840"/>
            <a:ext cx="8786880" cy="12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Apresentação e Análise dos dados/Estudo de ca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tângulo 2"/>
          <p:cNvSpPr/>
          <p:nvPr/>
        </p:nvSpPr>
        <p:spPr>
          <a:xfrm>
            <a:off x="179280" y="2965320"/>
            <a:ext cx="871560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Discutir como minimizar as dificuldades do recém-formado com base nas experiências dos profissionais atuant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Espaço Reservado para Número de Slide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67632-8038-4280-9A07-C261C511A0A9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2" descr="topo_saoMateus"/>
          <p:cNvPicPr/>
          <p:nvPr/>
        </p:nvPicPr>
        <p:blipFill>
          <a:blip r:embed="rId1"/>
          <a:stretch/>
        </p:blipFill>
        <p:spPr>
          <a:xfrm>
            <a:off x="179280" y="236520"/>
            <a:ext cx="8715600" cy="1104840"/>
          </a:xfrm>
          <a:prstGeom prst="rect">
            <a:avLst/>
          </a:prstGeom>
          <a:ln w="0">
            <a:noFill/>
          </a:ln>
        </p:spPr>
      </p:pic>
      <p:grpSp>
        <p:nvGrpSpPr>
          <p:cNvPr id="266" name="Grupo 3"/>
          <p:cNvGrpSpPr/>
          <p:nvPr/>
        </p:nvGrpSpPr>
        <p:grpSpPr>
          <a:xfrm>
            <a:off x="31680" y="6093000"/>
            <a:ext cx="9144000" cy="792000"/>
            <a:chOff x="31680" y="6093000"/>
            <a:chExt cx="9144000" cy="792000"/>
          </a:xfrm>
        </p:grpSpPr>
        <p:sp>
          <p:nvSpPr>
            <p:cNvPr id="267" name="Retângulo com Único Canto Aparado e Arredondado 4"/>
            <p:cNvSpPr/>
            <p:nvPr/>
          </p:nvSpPr>
          <p:spPr>
            <a:xfrm>
              <a:off x="31680" y="6093000"/>
              <a:ext cx="9144000" cy="768240"/>
            </a:xfrm>
            <a:custGeom>
              <a:avLst/>
              <a:gdLst/>
              <a:ahLst/>
              <a:rect l="l" t="t" r="r" b="b"/>
              <a:pathLst>
                <a:path w="9144000" h="907964">
                  <a:moveTo>
                    <a:pt x="151330" y="0"/>
                  </a:moveTo>
                  <a:lnTo>
                    <a:pt x="8992670" y="0"/>
                  </a:lnTo>
                  <a:lnTo>
                    <a:pt x="9144000" y="151330"/>
                  </a:lnTo>
                  <a:lnTo>
                    <a:pt x="9144000" y="907964"/>
                  </a:lnTo>
                  <a:lnTo>
                    <a:pt x="0" y="907964"/>
                  </a:lnTo>
                  <a:lnTo>
                    <a:pt x="0" y="151330"/>
                  </a:lnTo>
                  <a:cubicBezTo>
                    <a:pt x="0" y="67753"/>
                    <a:pt x="67753" y="0"/>
                    <a:pt x="151330" y="0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tângulo com Único Canto Aparado e Arredondado 5"/>
            <p:cNvSpPr/>
            <p:nvPr/>
          </p:nvSpPr>
          <p:spPr>
            <a:xfrm flipH="1">
              <a:off x="6654960" y="6116760"/>
              <a:ext cx="2520720" cy="768240"/>
            </a:xfrm>
            <a:custGeom>
              <a:avLst/>
              <a:gdLst/>
              <a:ahLst/>
              <a:rect l="l" t="t" r="r" b="b"/>
              <a:pathLst>
                <a:path w="2520950" h="907964">
                  <a:moveTo>
                    <a:pt x="151330" y="0"/>
                  </a:moveTo>
                  <a:lnTo>
                    <a:pt x="2369620" y="0"/>
                  </a:lnTo>
                  <a:lnTo>
                    <a:pt x="2520950" y="151330"/>
                  </a:lnTo>
                  <a:lnTo>
                    <a:pt x="2520950" y="907964"/>
                  </a:lnTo>
                  <a:lnTo>
                    <a:pt x="0" y="907964"/>
                  </a:lnTo>
                  <a:lnTo>
                    <a:pt x="0" y="151330"/>
                  </a:lnTo>
                  <a:cubicBezTo>
                    <a:pt x="0" y="67753"/>
                    <a:pt x="67753" y="0"/>
                    <a:pt x="151330" y="0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9" name="Imagem 12" descr=""/>
          <p:cNvPicPr/>
          <p:nvPr/>
        </p:nvPicPr>
        <p:blipFill>
          <a:blip r:embed="rId2"/>
          <a:stretch/>
        </p:blipFill>
        <p:spPr>
          <a:xfrm>
            <a:off x="6469200" y="6458040"/>
            <a:ext cx="2493720" cy="42696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1"/>
          <p:cNvSpPr/>
          <p:nvPr/>
        </p:nvSpPr>
        <p:spPr>
          <a:xfrm>
            <a:off x="1657440" y="252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tângulo 4"/>
          <p:cNvSpPr/>
          <p:nvPr/>
        </p:nvSpPr>
        <p:spPr>
          <a:xfrm>
            <a:off x="179280" y="1023840"/>
            <a:ext cx="8786880" cy="12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Apresentação e Análise dos dados/Estudo de ca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tângulo 1"/>
          <p:cNvSpPr/>
          <p:nvPr/>
        </p:nvSpPr>
        <p:spPr>
          <a:xfrm>
            <a:off x="179280" y="2389320"/>
            <a:ext cx="871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forma de minimizar as dificuldades dos recém-formados seria a persistência nos objetivos, pois as conquistas almejadas nem sempre virão nas primeiras tentativas, à busca contínua de aprendizagem, não ficar somente nas teorias aprendidas em sala de aula é importante ter sempre o interesse em querer aprender mais, seja pela realização de cursos ou leituras constantes. Ser humilde pra saber reconhecer os erros quando necessários e compreender que sempre é necessário aprender mais e que nunca se sabe de tudo e ética profissional para não se corromper e nem aceitar suborn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Espaço Reservado para Número de Slide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36011-885B-4C51-B879-97D00D0646E0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" descr="topo_saoMateus"/>
          <p:cNvPicPr/>
          <p:nvPr/>
        </p:nvPicPr>
        <p:blipFill>
          <a:blip r:embed="rId1"/>
          <a:stretch/>
        </p:blipFill>
        <p:spPr>
          <a:xfrm>
            <a:off x="179280" y="236520"/>
            <a:ext cx="8715600" cy="1104840"/>
          </a:xfrm>
          <a:prstGeom prst="rect">
            <a:avLst/>
          </a:prstGeom>
          <a:ln w="0">
            <a:noFill/>
          </a:ln>
        </p:spPr>
      </p:pic>
      <p:grpSp>
        <p:nvGrpSpPr>
          <p:cNvPr id="275" name="Grupo 3"/>
          <p:cNvGrpSpPr/>
          <p:nvPr/>
        </p:nvGrpSpPr>
        <p:grpSpPr>
          <a:xfrm>
            <a:off x="31680" y="6093000"/>
            <a:ext cx="9144000" cy="792000"/>
            <a:chOff x="31680" y="6093000"/>
            <a:chExt cx="9144000" cy="792000"/>
          </a:xfrm>
        </p:grpSpPr>
        <p:sp>
          <p:nvSpPr>
            <p:cNvPr id="276" name="Retângulo com Único Canto Aparado e Arredondado 4"/>
            <p:cNvSpPr/>
            <p:nvPr/>
          </p:nvSpPr>
          <p:spPr>
            <a:xfrm>
              <a:off x="31680" y="6093000"/>
              <a:ext cx="9144000" cy="768240"/>
            </a:xfrm>
            <a:custGeom>
              <a:avLst/>
              <a:gdLst/>
              <a:ahLst/>
              <a:rect l="l" t="t" r="r" b="b"/>
              <a:pathLst>
                <a:path w="9144000" h="907964">
                  <a:moveTo>
                    <a:pt x="151330" y="0"/>
                  </a:moveTo>
                  <a:lnTo>
                    <a:pt x="8992670" y="0"/>
                  </a:lnTo>
                  <a:lnTo>
                    <a:pt x="9144000" y="151330"/>
                  </a:lnTo>
                  <a:lnTo>
                    <a:pt x="9144000" y="907964"/>
                  </a:lnTo>
                  <a:lnTo>
                    <a:pt x="0" y="907964"/>
                  </a:lnTo>
                  <a:lnTo>
                    <a:pt x="0" y="151330"/>
                  </a:lnTo>
                  <a:cubicBezTo>
                    <a:pt x="0" y="67753"/>
                    <a:pt x="67753" y="0"/>
                    <a:pt x="151330" y="0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tângulo com Único Canto Aparado e Arredondado 5"/>
            <p:cNvSpPr/>
            <p:nvPr/>
          </p:nvSpPr>
          <p:spPr>
            <a:xfrm flipH="1">
              <a:off x="6654960" y="6116760"/>
              <a:ext cx="2520720" cy="768240"/>
            </a:xfrm>
            <a:custGeom>
              <a:avLst/>
              <a:gdLst/>
              <a:ahLst/>
              <a:rect l="l" t="t" r="r" b="b"/>
              <a:pathLst>
                <a:path w="2520950" h="907964">
                  <a:moveTo>
                    <a:pt x="151330" y="0"/>
                  </a:moveTo>
                  <a:lnTo>
                    <a:pt x="2369620" y="0"/>
                  </a:lnTo>
                  <a:lnTo>
                    <a:pt x="2520950" y="151330"/>
                  </a:lnTo>
                  <a:lnTo>
                    <a:pt x="2520950" y="907964"/>
                  </a:lnTo>
                  <a:lnTo>
                    <a:pt x="0" y="907964"/>
                  </a:lnTo>
                  <a:lnTo>
                    <a:pt x="0" y="151330"/>
                  </a:lnTo>
                  <a:cubicBezTo>
                    <a:pt x="0" y="67753"/>
                    <a:pt x="67753" y="0"/>
                    <a:pt x="151330" y="0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8" name="Imagem 12" descr=""/>
          <p:cNvPicPr/>
          <p:nvPr/>
        </p:nvPicPr>
        <p:blipFill>
          <a:blip r:embed="rId2"/>
          <a:stretch/>
        </p:blipFill>
        <p:spPr>
          <a:xfrm>
            <a:off x="6469200" y="6458040"/>
            <a:ext cx="2493720" cy="42696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1"/>
          <p:cNvSpPr/>
          <p:nvPr/>
        </p:nvSpPr>
        <p:spPr>
          <a:xfrm>
            <a:off x="1657440" y="252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tângulo 4"/>
          <p:cNvSpPr/>
          <p:nvPr/>
        </p:nvSpPr>
        <p:spPr>
          <a:xfrm>
            <a:off x="179280" y="1023840"/>
            <a:ext cx="8786880" cy="45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OS DESAFIOS DOS ENGENHEIROS CIVIS RECÉM-FORMADOS: ESTUDO DE CASO DA FACULDADE NORTE CAPIXABA DE SÃO MATEU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Introd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Referencial Teór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Apresentação e Análise de Dados/Estudo de Ca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Conclusão e Recomend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Referências Bibliográfic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Espaço Reservado para Número de Slide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5C00A-4467-45F8-88EA-CF5EFFF4FE44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2" descr="topo_saoMateus"/>
          <p:cNvPicPr/>
          <p:nvPr/>
        </p:nvPicPr>
        <p:blipFill>
          <a:blip r:embed="rId1"/>
          <a:stretch/>
        </p:blipFill>
        <p:spPr>
          <a:xfrm>
            <a:off x="179280" y="236520"/>
            <a:ext cx="8715600" cy="1104840"/>
          </a:xfrm>
          <a:prstGeom prst="rect">
            <a:avLst/>
          </a:prstGeom>
          <a:ln w="0">
            <a:noFill/>
          </a:ln>
        </p:spPr>
      </p:pic>
      <p:grpSp>
        <p:nvGrpSpPr>
          <p:cNvPr id="283" name="Grupo 3"/>
          <p:cNvGrpSpPr/>
          <p:nvPr/>
        </p:nvGrpSpPr>
        <p:grpSpPr>
          <a:xfrm>
            <a:off x="31680" y="6093000"/>
            <a:ext cx="9144000" cy="792000"/>
            <a:chOff x="31680" y="6093000"/>
            <a:chExt cx="9144000" cy="792000"/>
          </a:xfrm>
        </p:grpSpPr>
        <p:sp>
          <p:nvSpPr>
            <p:cNvPr id="284" name="Retângulo com Único Canto Aparado e Arredondado 4"/>
            <p:cNvSpPr/>
            <p:nvPr/>
          </p:nvSpPr>
          <p:spPr>
            <a:xfrm>
              <a:off x="31680" y="6093000"/>
              <a:ext cx="9144000" cy="768240"/>
            </a:xfrm>
            <a:custGeom>
              <a:avLst/>
              <a:gdLst/>
              <a:ahLst/>
              <a:rect l="l" t="t" r="r" b="b"/>
              <a:pathLst>
                <a:path w="9144000" h="907964">
                  <a:moveTo>
                    <a:pt x="151330" y="0"/>
                  </a:moveTo>
                  <a:lnTo>
                    <a:pt x="8992670" y="0"/>
                  </a:lnTo>
                  <a:lnTo>
                    <a:pt x="9144000" y="151330"/>
                  </a:lnTo>
                  <a:lnTo>
                    <a:pt x="9144000" y="907964"/>
                  </a:lnTo>
                  <a:lnTo>
                    <a:pt x="0" y="907964"/>
                  </a:lnTo>
                  <a:lnTo>
                    <a:pt x="0" y="151330"/>
                  </a:lnTo>
                  <a:cubicBezTo>
                    <a:pt x="0" y="67753"/>
                    <a:pt x="67753" y="0"/>
                    <a:pt x="151330" y="0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tângulo com Único Canto Aparado e Arredondado 5"/>
            <p:cNvSpPr/>
            <p:nvPr/>
          </p:nvSpPr>
          <p:spPr>
            <a:xfrm flipH="1">
              <a:off x="6654960" y="6116760"/>
              <a:ext cx="2520720" cy="768240"/>
            </a:xfrm>
            <a:custGeom>
              <a:avLst/>
              <a:gdLst/>
              <a:ahLst/>
              <a:rect l="l" t="t" r="r" b="b"/>
              <a:pathLst>
                <a:path w="2520950" h="907964">
                  <a:moveTo>
                    <a:pt x="151330" y="0"/>
                  </a:moveTo>
                  <a:lnTo>
                    <a:pt x="2369620" y="0"/>
                  </a:lnTo>
                  <a:lnTo>
                    <a:pt x="2520950" y="151330"/>
                  </a:lnTo>
                  <a:lnTo>
                    <a:pt x="2520950" y="907964"/>
                  </a:lnTo>
                  <a:lnTo>
                    <a:pt x="0" y="907964"/>
                  </a:lnTo>
                  <a:lnTo>
                    <a:pt x="0" y="151330"/>
                  </a:lnTo>
                  <a:cubicBezTo>
                    <a:pt x="0" y="67753"/>
                    <a:pt x="67753" y="0"/>
                    <a:pt x="151330" y="0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6" name="Imagem 12" descr=""/>
          <p:cNvPicPr/>
          <p:nvPr/>
        </p:nvPicPr>
        <p:blipFill>
          <a:blip r:embed="rId2"/>
          <a:stretch/>
        </p:blipFill>
        <p:spPr>
          <a:xfrm>
            <a:off x="6469200" y="6458040"/>
            <a:ext cx="2493720" cy="42696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1"/>
          <p:cNvSpPr/>
          <p:nvPr/>
        </p:nvSpPr>
        <p:spPr>
          <a:xfrm>
            <a:off x="1657440" y="252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tângulo 4"/>
          <p:cNvSpPr/>
          <p:nvPr/>
        </p:nvSpPr>
        <p:spPr>
          <a:xfrm>
            <a:off x="179280" y="1023840"/>
            <a:ext cx="8786880" cy="53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Conclus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De modo geral, as dificuldades e desafios que os engenheiros atuantes relataram terem passado, são as mesmas previstas a serem passadas pelos recém-formados, uma vez que mostra a preocupação em atuar, tendo como base, profissionais já experientes, trazendo frustrações ao se comparar aos mesmos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Espaço Reservado para Número de Slide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C6F53-E41F-403E-9985-EDB58D23443E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topo_saoMateus"/>
          <p:cNvPicPr/>
          <p:nvPr/>
        </p:nvPicPr>
        <p:blipFill>
          <a:blip r:embed="rId1"/>
          <a:stretch/>
        </p:blipFill>
        <p:spPr>
          <a:xfrm>
            <a:off x="179280" y="236520"/>
            <a:ext cx="8715600" cy="1104840"/>
          </a:xfrm>
          <a:prstGeom prst="rect">
            <a:avLst/>
          </a:prstGeom>
          <a:ln w="0">
            <a:noFill/>
          </a:ln>
        </p:spPr>
      </p:pic>
      <p:grpSp>
        <p:nvGrpSpPr>
          <p:cNvPr id="291" name="Grupo 3"/>
          <p:cNvGrpSpPr/>
          <p:nvPr/>
        </p:nvGrpSpPr>
        <p:grpSpPr>
          <a:xfrm>
            <a:off x="31680" y="6093000"/>
            <a:ext cx="9144000" cy="792000"/>
            <a:chOff x="31680" y="6093000"/>
            <a:chExt cx="9144000" cy="792000"/>
          </a:xfrm>
        </p:grpSpPr>
        <p:sp>
          <p:nvSpPr>
            <p:cNvPr id="292" name="Retângulo com Único Canto Aparado e Arredondado 4"/>
            <p:cNvSpPr/>
            <p:nvPr/>
          </p:nvSpPr>
          <p:spPr>
            <a:xfrm>
              <a:off x="31680" y="6093000"/>
              <a:ext cx="9144000" cy="768240"/>
            </a:xfrm>
            <a:custGeom>
              <a:avLst/>
              <a:gdLst/>
              <a:ahLst/>
              <a:rect l="l" t="t" r="r" b="b"/>
              <a:pathLst>
                <a:path w="9144000" h="907964">
                  <a:moveTo>
                    <a:pt x="151330" y="0"/>
                  </a:moveTo>
                  <a:lnTo>
                    <a:pt x="8992670" y="0"/>
                  </a:lnTo>
                  <a:lnTo>
                    <a:pt x="9144000" y="151330"/>
                  </a:lnTo>
                  <a:lnTo>
                    <a:pt x="9144000" y="907964"/>
                  </a:lnTo>
                  <a:lnTo>
                    <a:pt x="0" y="907964"/>
                  </a:lnTo>
                  <a:lnTo>
                    <a:pt x="0" y="151330"/>
                  </a:lnTo>
                  <a:cubicBezTo>
                    <a:pt x="0" y="67753"/>
                    <a:pt x="67753" y="0"/>
                    <a:pt x="151330" y="0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tângulo com Único Canto Aparado e Arredondado 5"/>
            <p:cNvSpPr/>
            <p:nvPr/>
          </p:nvSpPr>
          <p:spPr>
            <a:xfrm flipH="1">
              <a:off x="6654960" y="6116760"/>
              <a:ext cx="2520720" cy="768240"/>
            </a:xfrm>
            <a:custGeom>
              <a:avLst/>
              <a:gdLst/>
              <a:ahLst/>
              <a:rect l="l" t="t" r="r" b="b"/>
              <a:pathLst>
                <a:path w="2520950" h="907964">
                  <a:moveTo>
                    <a:pt x="151330" y="0"/>
                  </a:moveTo>
                  <a:lnTo>
                    <a:pt x="2369620" y="0"/>
                  </a:lnTo>
                  <a:lnTo>
                    <a:pt x="2520950" y="151330"/>
                  </a:lnTo>
                  <a:lnTo>
                    <a:pt x="2520950" y="907964"/>
                  </a:lnTo>
                  <a:lnTo>
                    <a:pt x="0" y="907964"/>
                  </a:lnTo>
                  <a:lnTo>
                    <a:pt x="0" y="151330"/>
                  </a:lnTo>
                  <a:cubicBezTo>
                    <a:pt x="0" y="67753"/>
                    <a:pt x="67753" y="0"/>
                    <a:pt x="151330" y="0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4" name="Imagem 12" descr=""/>
          <p:cNvPicPr/>
          <p:nvPr/>
        </p:nvPicPr>
        <p:blipFill>
          <a:blip r:embed="rId2"/>
          <a:stretch/>
        </p:blipFill>
        <p:spPr>
          <a:xfrm>
            <a:off x="6469200" y="6458040"/>
            <a:ext cx="2493720" cy="42696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1"/>
          <p:cNvSpPr/>
          <p:nvPr/>
        </p:nvSpPr>
        <p:spPr>
          <a:xfrm>
            <a:off x="1657440" y="252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tângulo 4"/>
          <p:cNvSpPr/>
          <p:nvPr/>
        </p:nvSpPr>
        <p:spPr>
          <a:xfrm>
            <a:off x="179280" y="1023840"/>
            <a:ext cx="8786880" cy="39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Conclus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Uma maneira de minimizar este impacto é sempre buscar o conhecimento através de leituras, cursos e até mesmos com outros profissionai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Espaço Reservado para Número de Slide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FA61A-F68B-4FB2-9BC4-696920AB03BC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topo_saoMateus"/>
          <p:cNvPicPr/>
          <p:nvPr/>
        </p:nvPicPr>
        <p:blipFill>
          <a:blip r:embed="rId1"/>
          <a:stretch/>
        </p:blipFill>
        <p:spPr>
          <a:xfrm>
            <a:off x="179280" y="236520"/>
            <a:ext cx="8715600" cy="1104840"/>
          </a:xfrm>
          <a:prstGeom prst="rect">
            <a:avLst/>
          </a:prstGeom>
          <a:ln w="0">
            <a:noFill/>
          </a:ln>
        </p:spPr>
      </p:pic>
      <p:grpSp>
        <p:nvGrpSpPr>
          <p:cNvPr id="64" name="Grupo 3"/>
          <p:cNvGrpSpPr/>
          <p:nvPr/>
        </p:nvGrpSpPr>
        <p:grpSpPr>
          <a:xfrm>
            <a:off x="31680" y="6093000"/>
            <a:ext cx="9144000" cy="792000"/>
            <a:chOff x="31680" y="6093000"/>
            <a:chExt cx="9144000" cy="792000"/>
          </a:xfrm>
        </p:grpSpPr>
        <p:sp>
          <p:nvSpPr>
            <p:cNvPr id="65" name="Retângulo com Único Canto Aparado e Arredondado 4"/>
            <p:cNvSpPr/>
            <p:nvPr/>
          </p:nvSpPr>
          <p:spPr>
            <a:xfrm>
              <a:off x="31680" y="6093000"/>
              <a:ext cx="9144000" cy="768240"/>
            </a:xfrm>
            <a:custGeom>
              <a:avLst/>
              <a:gdLst/>
              <a:ahLst/>
              <a:rect l="l" t="t" r="r" b="b"/>
              <a:pathLst>
                <a:path w="9144000" h="907964">
                  <a:moveTo>
                    <a:pt x="151330" y="0"/>
                  </a:moveTo>
                  <a:lnTo>
                    <a:pt x="8992670" y="0"/>
                  </a:lnTo>
                  <a:lnTo>
                    <a:pt x="9144000" y="151330"/>
                  </a:lnTo>
                  <a:lnTo>
                    <a:pt x="9144000" y="907964"/>
                  </a:lnTo>
                  <a:lnTo>
                    <a:pt x="0" y="907964"/>
                  </a:lnTo>
                  <a:lnTo>
                    <a:pt x="0" y="151330"/>
                  </a:lnTo>
                  <a:cubicBezTo>
                    <a:pt x="0" y="67753"/>
                    <a:pt x="67753" y="0"/>
                    <a:pt x="151330" y="0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tângulo com Único Canto Aparado e Arredondado 5"/>
            <p:cNvSpPr/>
            <p:nvPr/>
          </p:nvSpPr>
          <p:spPr>
            <a:xfrm flipH="1">
              <a:off x="6654960" y="6116760"/>
              <a:ext cx="2520720" cy="768240"/>
            </a:xfrm>
            <a:custGeom>
              <a:avLst/>
              <a:gdLst/>
              <a:ahLst/>
              <a:rect l="l" t="t" r="r" b="b"/>
              <a:pathLst>
                <a:path w="2520950" h="907964">
                  <a:moveTo>
                    <a:pt x="151330" y="0"/>
                  </a:moveTo>
                  <a:lnTo>
                    <a:pt x="2369620" y="0"/>
                  </a:lnTo>
                  <a:lnTo>
                    <a:pt x="2520950" y="151330"/>
                  </a:lnTo>
                  <a:lnTo>
                    <a:pt x="2520950" y="907964"/>
                  </a:lnTo>
                  <a:lnTo>
                    <a:pt x="0" y="907964"/>
                  </a:lnTo>
                  <a:lnTo>
                    <a:pt x="0" y="151330"/>
                  </a:lnTo>
                  <a:cubicBezTo>
                    <a:pt x="0" y="67753"/>
                    <a:pt x="67753" y="0"/>
                    <a:pt x="151330" y="0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Imagem 12" descr=""/>
          <p:cNvPicPr/>
          <p:nvPr/>
        </p:nvPicPr>
        <p:blipFill>
          <a:blip r:embed="rId2"/>
          <a:stretch/>
        </p:blipFill>
        <p:spPr>
          <a:xfrm>
            <a:off x="6469200" y="6458040"/>
            <a:ext cx="2493720" cy="42696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1"/>
          <p:cNvSpPr/>
          <p:nvPr/>
        </p:nvSpPr>
        <p:spPr>
          <a:xfrm>
            <a:off x="1547640" y="2565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tângulo 4"/>
          <p:cNvSpPr/>
          <p:nvPr/>
        </p:nvSpPr>
        <p:spPr>
          <a:xfrm>
            <a:off x="179280" y="1023840"/>
            <a:ext cx="8786880" cy="481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Justificativa do T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O que impulsionou a realização deste trabalho foi levantar as dificuldades encontradas pelos engenheiros civis recém-formados, apresentando propostas do que o engenheiro civil precisa saber ao se deparar com o mercado, com base nas experiências de profissionais atuant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Espaço Reservado para Número de Slide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A2853-5CFD-4FF3-BFED-856AB03F3EF8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2" descr="topo_saoMateus"/>
          <p:cNvPicPr/>
          <p:nvPr/>
        </p:nvPicPr>
        <p:blipFill>
          <a:blip r:embed="rId1"/>
          <a:stretch/>
        </p:blipFill>
        <p:spPr>
          <a:xfrm>
            <a:off x="179280" y="236520"/>
            <a:ext cx="8715600" cy="1104840"/>
          </a:xfrm>
          <a:prstGeom prst="rect">
            <a:avLst/>
          </a:prstGeom>
          <a:ln w="0">
            <a:noFill/>
          </a:ln>
        </p:spPr>
      </p:pic>
      <p:grpSp>
        <p:nvGrpSpPr>
          <p:cNvPr id="299" name="Grupo 3"/>
          <p:cNvGrpSpPr/>
          <p:nvPr/>
        </p:nvGrpSpPr>
        <p:grpSpPr>
          <a:xfrm>
            <a:off x="31680" y="6093000"/>
            <a:ext cx="9144000" cy="792000"/>
            <a:chOff x="31680" y="6093000"/>
            <a:chExt cx="9144000" cy="792000"/>
          </a:xfrm>
        </p:grpSpPr>
        <p:sp>
          <p:nvSpPr>
            <p:cNvPr id="300" name="Retângulo com Único Canto Aparado e Arredondado 4"/>
            <p:cNvSpPr/>
            <p:nvPr/>
          </p:nvSpPr>
          <p:spPr>
            <a:xfrm>
              <a:off x="31680" y="6093000"/>
              <a:ext cx="9144000" cy="768240"/>
            </a:xfrm>
            <a:custGeom>
              <a:avLst/>
              <a:gdLst/>
              <a:ahLst/>
              <a:rect l="l" t="t" r="r" b="b"/>
              <a:pathLst>
                <a:path w="9144000" h="907964">
                  <a:moveTo>
                    <a:pt x="151330" y="0"/>
                  </a:moveTo>
                  <a:lnTo>
                    <a:pt x="8992670" y="0"/>
                  </a:lnTo>
                  <a:lnTo>
                    <a:pt x="9144000" y="151330"/>
                  </a:lnTo>
                  <a:lnTo>
                    <a:pt x="9144000" y="907964"/>
                  </a:lnTo>
                  <a:lnTo>
                    <a:pt x="0" y="907964"/>
                  </a:lnTo>
                  <a:lnTo>
                    <a:pt x="0" y="151330"/>
                  </a:lnTo>
                  <a:cubicBezTo>
                    <a:pt x="0" y="67753"/>
                    <a:pt x="67753" y="0"/>
                    <a:pt x="151330" y="0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tângulo com Único Canto Aparado e Arredondado 5"/>
            <p:cNvSpPr/>
            <p:nvPr/>
          </p:nvSpPr>
          <p:spPr>
            <a:xfrm flipH="1">
              <a:off x="6654960" y="6116760"/>
              <a:ext cx="2520720" cy="768240"/>
            </a:xfrm>
            <a:custGeom>
              <a:avLst/>
              <a:gdLst/>
              <a:ahLst/>
              <a:rect l="l" t="t" r="r" b="b"/>
              <a:pathLst>
                <a:path w="2520950" h="907964">
                  <a:moveTo>
                    <a:pt x="151330" y="0"/>
                  </a:moveTo>
                  <a:lnTo>
                    <a:pt x="2369620" y="0"/>
                  </a:lnTo>
                  <a:lnTo>
                    <a:pt x="2520950" y="151330"/>
                  </a:lnTo>
                  <a:lnTo>
                    <a:pt x="2520950" y="907964"/>
                  </a:lnTo>
                  <a:lnTo>
                    <a:pt x="0" y="907964"/>
                  </a:lnTo>
                  <a:lnTo>
                    <a:pt x="0" y="151330"/>
                  </a:lnTo>
                  <a:cubicBezTo>
                    <a:pt x="0" y="67753"/>
                    <a:pt x="67753" y="0"/>
                    <a:pt x="151330" y="0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2" name="Imagem 12" descr=""/>
          <p:cNvPicPr/>
          <p:nvPr/>
        </p:nvPicPr>
        <p:blipFill>
          <a:blip r:embed="rId2"/>
          <a:stretch/>
        </p:blipFill>
        <p:spPr>
          <a:xfrm>
            <a:off x="6469200" y="6458040"/>
            <a:ext cx="2493720" cy="426960"/>
          </a:xfrm>
          <a:prstGeom prst="rect">
            <a:avLst/>
          </a:prstGeom>
          <a:ln w="0">
            <a:noFill/>
          </a:ln>
        </p:spPr>
      </p:pic>
      <p:sp>
        <p:nvSpPr>
          <p:cNvPr id="303" name="Rectangle 1"/>
          <p:cNvSpPr/>
          <p:nvPr/>
        </p:nvSpPr>
        <p:spPr>
          <a:xfrm>
            <a:off x="1657440" y="252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tângulo 4"/>
          <p:cNvSpPr/>
          <p:nvPr/>
        </p:nvSpPr>
        <p:spPr>
          <a:xfrm>
            <a:off x="179280" y="1023840"/>
            <a:ext cx="8786880" cy="44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Recomend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Dada à importância do tema, torna-se necessário a realização do desenvolvimento de projetos voltados para a integração entre profissionais atuantes e aos ingressantes no mercado de trabalho, que atendam a esses anseios vivenciados pelos recém-formado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Espaço Reservado para Número de Slide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B415D-6BA6-47E7-8516-EAB1402CA01C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2" descr="topo_saoMateus"/>
          <p:cNvPicPr/>
          <p:nvPr/>
        </p:nvPicPr>
        <p:blipFill>
          <a:blip r:embed="rId1"/>
          <a:stretch/>
        </p:blipFill>
        <p:spPr>
          <a:xfrm>
            <a:off x="179280" y="236520"/>
            <a:ext cx="8715600" cy="1104840"/>
          </a:xfrm>
          <a:prstGeom prst="rect">
            <a:avLst/>
          </a:prstGeom>
          <a:ln w="0">
            <a:noFill/>
          </a:ln>
        </p:spPr>
      </p:pic>
      <p:grpSp>
        <p:nvGrpSpPr>
          <p:cNvPr id="307" name="Grupo 3"/>
          <p:cNvGrpSpPr/>
          <p:nvPr/>
        </p:nvGrpSpPr>
        <p:grpSpPr>
          <a:xfrm>
            <a:off x="31680" y="6093000"/>
            <a:ext cx="9144000" cy="792000"/>
            <a:chOff x="31680" y="6093000"/>
            <a:chExt cx="9144000" cy="792000"/>
          </a:xfrm>
        </p:grpSpPr>
        <p:sp>
          <p:nvSpPr>
            <p:cNvPr id="308" name="Retângulo com Único Canto Aparado e Arredondado 4"/>
            <p:cNvSpPr/>
            <p:nvPr/>
          </p:nvSpPr>
          <p:spPr>
            <a:xfrm>
              <a:off x="31680" y="6093000"/>
              <a:ext cx="9144000" cy="768240"/>
            </a:xfrm>
            <a:custGeom>
              <a:avLst/>
              <a:gdLst/>
              <a:ahLst/>
              <a:rect l="l" t="t" r="r" b="b"/>
              <a:pathLst>
                <a:path w="9144000" h="907964">
                  <a:moveTo>
                    <a:pt x="151330" y="0"/>
                  </a:moveTo>
                  <a:lnTo>
                    <a:pt x="8992670" y="0"/>
                  </a:lnTo>
                  <a:lnTo>
                    <a:pt x="9144000" y="151330"/>
                  </a:lnTo>
                  <a:lnTo>
                    <a:pt x="9144000" y="907964"/>
                  </a:lnTo>
                  <a:lnTo>
                    <a:pt x="0" y="907964"/>
                  </a:lnTo>
                  <a:lnTo>
                    <a:pt x="0" y="151330"/>
                  </a:lnTo>
                  <a:cubicBezTo>
                    <a:pt x="0" y="67753"/>
                    <a:pt x="67753" y="0"/>
                    <a:pt x="151330" y="0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tângulo com Único Canto Aparado e Arredondado 5"/>
            <p:cNvSpPr/>
            <p:nvPr/>
          </p:nvSpPr>
          <p:spPr>
            <a:xfrm flipH="1">
              <a:off x="6654960" y="6116760"/>
              <a:ext cx="2520720" cy="768240"/>
            </a:xfrm>
            <a:custGeom>
              <a:avLst/>
              <a:gdLst/>
              <a:ahLst/>
              <a:rect l="l" t="t" r="r" b="b"/>
              <a:pathLst>
                <a:path w="2520950" h="907964">
                  <a:moveTo>
                    <a:pt x="151330" y="0"/>
                  </a:moveTo>
                  <a:lnTo>
                    <a:pt x="2369620" y="0"/>
                  </a:lnTo>
                  <a:lnTo>
                    <a:pt x="2520950" y="151330"/>
                  </a:lnTo>
                  <a:lnTo>
                    <a:pt x="2520950" y="907964"/>
                  </a:lnTo>
                  <a:lnTo>
                    <a:pt x="0" y="907964"/>
                  </a:lnTo>
                  <a:lnTo>
                    <a:pt x="0" y="151330"/>
                  </a:lnTo>
                  <a:cubicBezTo>
                    <a:pt x="0" y="67753"/>
                    <a:pt x="67753" y="0"/>
                    <a:pt x="151330" y="0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0" name="Imagem 12" descr=""/>
          <p:cNvPicPr/>
          <p:nvPr/>
        </p:nvPicPr>
        <p:blipFill>
          <a:blip r:embed="rId2"/>
          <a:stretch/>
        </p:blipFill>
        <p:spPr>
          <a:xfrm>
            <a:off x="6469200" y="6458040"/>
            <a:ext cx="2493720" cy="42696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1"/>
          <p:cNvSpPr/>
          <p:nvPr/>
        </p:nvSpPr>
        <p:spPr>
          <a:xfrm>
            <a:off x="1657440" y="252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tângulo 4"/>
          <p:cNvSpPr/>
          <p:nvPr/>
        </p:nvSpPr>
        <p:spPr>
          <a:xfrm>
            <a:off x="179280" y="1023840"/>
            <a:ext cx="8786880" cy="59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Recomend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Neste sentido, esses projetos mostrariam a realidade vivenciada pela profissão e de certa forma minimizaria as preocupações que todo profissional passará ao finalizar a graduação, motivando o recém-formado a ter mais expectativa e confiança para exercer suas atividad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Espaço Reservado para Número de Slide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5589E-2E43-4DAE-A4BE-59444D75B24D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2" descr="topo_saoMateus"/>
          <p:cNvPicPr/>
          <p:nvPr/>
        </p:nvPicPr>
        <p:blipFill>
          <a:blip r:embed="rId1"/>
          <a:stretch/>
        </p:blipFill>
        <p:spPr>
          <a:xfrm>
            <a:off x="179280" y="236520"/>
            <a:ext cx="8715600" cy="1104840"/>
          </a:xfrm>
          <a:prstGeom prst="rect">
            <a:avLst/>
          </a:prstGeom>
          <a:ln w="0">
            <a:noFill/>
          </a:ln>
        </p:spPr>
      </p:pic>
      <p:grpSp>
        <p:nvGrpSpPr>
          <p:cNvPr id="315" name="Grupo 3"/>
          <p:cNvGrpSpPr/>
          <p:nvPr/>
        </p:nvGrpSpPr>
        <p:grpSpPr>
          <a:xfrm>
            <a:off x="31680" y="6093000"/>
            <a:ext cx="9144000" cy="792000"/>
            <a:chOff x="31680" y="6093000"/>
            <a:chExt cx="9144000" cy="792000"/>
          </a:xfrm>
        </p:grpSpPr>
        <p:sp>
          <p:nvSpPr>
            <p:cNvPr id="316" name="Retângulo com Único Canto Aparado e Arredondado 4"/>
            <p:cNvSpPr/>
            <p:nvPr/>
          </p:nvSpPr>
          <p:spPr>
            <a:xfrm>
              <a:off x="31680" y="6093000"/>
              <a:ext cx="9144000" cy="768240"/>
            </a:xfrm>
            <a:custGeom>
              <a:avLst/>
              <a:gdLst/>
              <a:ahLst/>
              <a:rect l="l" t="t" r="r" b="b"/>
              <a:pathLst>
                <a:path w="9144000" h="907964">
                  <a:moveTo>
                    <a:pt x="151330" y="0"/>
                  </a:moveTo>
                  <a:lnTo>
                    <a:pt x="8992670" y="0"/>
                  </a:lnTo>
                  <a:lnTo>
                    <a:pt x="9144000" y="151330"/>
                  </a:lnTo>
                  <a:lnTo>
                    <a:pt x="9144000" y="907964"/>
                  </a:lnTo>
                  <a:lnTo>
                    <a:pt x="0" y="907964"/>
                  </a:lnTo>
                  <a:lnTo>
                    <a:pt x="0" y="151330"/>
                  </a:lnTo>
                  <a:cubicBezTo>
                    <a:pt x="0" y="67753"/>
                    <a:pt x="67753" y="0"/>
                    <a:pt x="151330" y="0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tângulo com Único Canto Aparado e Arredondado 5"/>
            <p:cNvSpPr/>
            <p:nvPr/>
          </p:nvSpPr>
          <p:spPr>
            <a:xfrm flipH="1">
              <a:off x="6654960" y="6116760"/>
              <a:ext cx="2520720" cy="768240"/>
            </a:xfrm>
            <a:custGeom>
              <a:avLst/>
              <a:gdLst/>
              <a:ahLst/>
              <a:rect l="l" t="t" r="r" b="b"/>
              <a:pathLst>
                <a:path w="2520950" h="907964">
                  <a:moveTo>
                    <a:pt x="151330" y="0"/>
                  </a:moveTo>
                  <a:lnTo>
                    <a:pt x="2369620" y="0"/>
                  </a:lnTo>
                  <a:lnTo>
                    <a:pt x="2520950" y="151330"/>
                  </a:lnTo>
                  <a:lnTo>
                    <a:pt x="2520950" y="907964"/>
                  </a:lnTo>
                  <a:lnTo>
                    <a:pt x="0" y="907964"/>
                  </a:lnTo>
                  <a:lnTo>
                    <a:pt x="0" y="151330"/>
                  </a:lnTo>
                  <a:cubicBezTo>
                    <a:pt x="0" y="67753"/>
                    <a:pt x="67753" y="0"/>
                    <a:pt x="151330" y="0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8" name="Imagem 12" descr=""/>
          <p:cNvPicPr/>
          <p:nvPr/>
        </p:nvPicPr>
        <p:blipFill>
          <a:blip r:embed="rId2"/>
          <a:stretch/>
        </p:blipFill>
        <p:spPr>
          <a:xfrm>
            <a:off x="6469200" y="6458040"/>
            <a:ext cx="2493720" cy="42696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1"/>
          <p:cNvSpPr/>
          <p:nvPr/>
        </p:nvSpPr>
        <p:spPr>
          <a:xfrm>
            <a:off x="1657440" y="252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tângulo 4"/>
          <p:cNvSpPr/>
          <p:nvPr/>
        </p:nvSpPr>
        <p:spPr>
          <a:xfrm>
            <a:off x="179280" y="1023840"/>
            <a:ext cx="8786880" cy="47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OS DESAFIOS DOS ENGENHEIROS CIVIS RECÉM-FORMADOS: ESTUDO DE CASO DA FACULDADE NORTE CAPIXABA DE SÃO MATEU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Introd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Referencial Teór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Apresentação e Análise de Dados/Estudo de Ca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Conclusão e Recomend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ferências Bibliográfic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Espaço Reservado para Número de Slide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F3F10-FBDE-4F6C-A02F-CAEB306F8C20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2" descr="topo_saoMateus"/>
          <p:cNvPicPr/>
          <p:nvPr/>
        </p:nvPicPr>
        <p:blipFill>
          <a:blip r:embed="rId1"/>
          <a:stretch/>
        </p:blipFill>
        <p:spPr>
          <a:xfrm>
            <a:off x="179280" y="236520"/>
            <a:ext cx="8715600" cy="1104840"/>
          </a:xfrm>
          <a:prstGeom prst="rect">
            <a:avLst/>
          </a:prstGeom>
          <a:ln w="0">
            <a:noFill/>
          </a:ln>
        </p:spPr>
      </p:pic>
      <p:grpSp>
        <p:nvGrpSpPr>
          <p:cNvPr id="323" name="Grupo 3"/>
          <p:cNvGrpSpPr/>
          <p:nvPr/>
        </p:nvGrpSpPr>
        <p:grpSpPr>
          <a:xfrm>
            <a:off x="31680" y="6093000"/>
            <a:ext cx="9144000" cy="792000"/>
            <a:chOff x="31680" y="6093000"/>
            <a:chExt cx="9144000" cy="792000"/>
          </a:xfrm>
        </p:grpSpPr>
        <p:sp>
          <p:nvSpPr>
            <p:cNvPr id="324" name="Retângulo com Único Canto Aparado e Arredondado 4"/>
            <p:cNvSpPr/>
            <p:nvPr/>
          </p:nvSpPr>
          <p:spPr>
            <a:xfrm>
              <a:off x="31680" y="6093000"/>
              <a:ext cx="9144000" cy="768240"/>
            </a:xfrm>
            <a:custGeom>
              <a:avLst/>
              <a:gdLst/>
              <a:ahLst/>
              <a:rect l="l" t="t" r="r" b="b"/>
              <a:pathLst>
                <a:path w="9144000" h="907964">
                  <a:moveTo>
                    <a:pt x="151330" y="0"/>
                  </a:moveTo>
                  <a:lnTo>
                    <a:pt x="8992670" y="0"/>
                  </a:lnTo>
                  <a:lnTo>
                    <a:pt x="9144000" y="151330"/>
                  </a:lnTo>
                  <a:lnTo>
                    <a:pt x="9144000" y="907964"/>
                  </a:lnTo>
                  <a:lnTo>
                    <a:pt x="0" y="907964"/>
                  </a:lnTo>
                  <a:lnTo>
                    <a:pt x="0" y="151330"/>
                  </a:lnTo>
                  <a:cubicBezTo>
                    <a:pt x="0" y="67753"/>
                    <a:pt x="67753" y="0"/>
                    <a:pt x="151330" y="0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tângulo com Único Canto Aparado e Arredondado 5"/>
            <p:cNvSpPr/>
            <p:nvPr/>
          </p:nvSpPr>
          <p:spPr>
            <a:xfrm flipH="1">
              <a:off x="6654960" y="6116760"/>
              <a:ext cx="2520720" cy="768240"/>
            </a:xfrm>
            <a:custGeom>
              <a:avLst/>
              <a:gdLst/>
              <a:ahLst/>
              <a:rect l="l" t="t" r="r" b="b"/>
              <a:pathLst>
                <a:path w="2520950" h="907964">
                  <a:moveTo>
                    <a:pt x="151330" y="0"/>
                  </a:moveTo>
                  <a:lnTo>
                    <a:pt x="2369620" y="0"/>
                  </a:lnTo>
                  <a:lnTo>
                    <a:pt x="2520950" y="151330"/>
                  </a:lnTo>
                  <a:lnTo>
                    <a:pt x="2520950" y="907964"/>
                  </a:lnTo>
                  <a:lnTo>
                    <a:pt x="0" y="907964"/>
                  </a:lnTo>
                  <a:lnTo>
                    <a:pt x="0" y="151330"/>
                  </a:lnTo>
                  <a:cubicBezTo>
                    <a:pt x="0" y="67753"/>
                    <a:pt x="67753" y="0"/>
                    <a:pt x="151330" y="0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Imagem 12" descr=""/>
          <p:cNvPicPr/>
          <p:nvPr/>
        </p:nvPicPr>
        <p:blipFill>
          <a:blip r:embed="rId2"/>
          <a:stretch/>
        </p:blipFill>
        <p:spPr>
          <a:xfrm>
            <a:off x="6469200" y="6458040"/>
            <a:ext cx="2493720" cy="426960"/>
          </a:xfrm>
          <a:prstGeom prst="rect">
            <a:avLst/>
          </a:prstGeom>
          <a:ln w="0">
            <a:noFill/>
          </a:ln>
        </p:spPr>
      </p:pic>
      <p:sp>
        <p:nvSpPr>
          <p:cNvPr id="327" name="Rectangle 1"/>
          <p:cNvSpPr/>
          <p:nvPr/>
        </p:nvSpPr>
        <p:spPr>
          <a:xfrm>
            <a:off x="1657440" y="252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tângulo 4"/>
          <p:cNvSpPr/>
          <p:nvPr/>
        </p:nvSpPr>
        <p:spPr>
          <a:xfrm>
            <a:off x="179280" y="1023840"/>
            <a:ext cx="8786880" cy="43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Referências Bibliográf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BARROS, A. J., &amp; LEHFELD, N. D. (2007). </a:t>
            </a:r>
            <a:r>
              <a:rPr b="1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Fundamentos da Metodologia Científica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 (3ª ed.). São Paulo: Pearson Prentice Hall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BAZZO, W. A.; PEREIRA, L. T. D. V. </a:t>
            </a:r>
            <a:r>
              <a:rPr b="1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Introdução á Engenharia: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 Conceiros, Ferramentas e Comportamentos. FLORIANÓPOLIS: UFSC, 2009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Espaço Reservado para Número de Slide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0E552-DD6B-47C4-AFE1-87C9DDA848ED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topo_saoMateus"/>
          <p:cNvPicPr/>
          <p:nvPr/>
        </p:nvPicPr>
        <p:blipFill>
          <a:blip r:embed="rId1"/>
          <a:stretch/>
        </p:blipFill>
        <p:spPr>
          <a:xfrm>
            <a:off x="179280" y="236520"/>
            <a:ext cx="8715600" cy="1104840"/>
          </a:xfrm>
          <a:prstGeom prst="rect">
            <a:avLst/>
          </a:prstGeom>
          <a:ln w="0">
            <a:noFill/>
          </a:ln>
        </p:spPr>
      </p:pic>
      <p:grpSp>
        <p:nvGrpSpPr>
          <p:cNvPr id="331" name="Grupo 3"/>
          <p:cNvGrpSpPr/>
          <p:nvPr/>
        </p:nvGrpSpPr>
        <p:grpSpPr>
          <a:xfrm>
            <a:off x="31680" y="6093000"/>
            <a:ext cx="9144000" cy="792000"/>
            <a:chOff x="31680" y="6093000"/>
            <a:chExt cx="9144000" cy="792000"/>
          </a:xfrm>
        </p:grpSpPr>
        <p:sp>
          <p:nvSpPr>
            <p:cNvPr id="332" name="Retângulo com Único Canto Aparado e Arredondado 4"/>
            <p:cNvSpPr/>
            <p:nvPr/>
          </p:nvSpPr>
          <p:spPr>
            <a:xfrm>
              <a:off x="31680" y="6093000"/>
              <a:ext cx="9144000" cy="768240"/>
            </a:xfrm>
            <a:custGeom>
              <a:avLst/>
              <a:gdLst/>
              <a:ahLst/>
              <a:rect l="l" t="t" r="r" b="b"/>
              <a:pathLst>
                <a:path w="9144000" h="907964">
                  <a:moveTo>
                    <a:pt x="151330" y="0"/>
                  </a:moveTo>
                  <a:lnTo>
                    <a:pt x="8992670" y="0"/>
                  </a:lnTo>
                  <a:lnTo>
                    <a:pt x="9144000" y="151330"/>
                  </a:lnTo>
                  <a:lnTo>
                    <a:pt x="9144000" y="907964"/>
                  </a:lnTo>
                  <a:lnTo>
                    <a:pt x="0" y="907964"/>
                  </a:lnTo>
                  <a:lnTo>
                    <a:pt x="0" y="151330"/>
                  </a:lnTo>
                  <a:cubicBezTo>
                    <a:pt x="0" y="67753"/>
                    <a:pt x="67753" y="0"/>
                    <a:pt x="151330" y="0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tângulo com Único Canto Aparado e Arredondado 5"/>
            <p:cNvSpPr/>
            <p:nvPr/>
          </p:nvSpPr>
          <p:spPr>
            <a:xfrm flipH="1">
              <a:off x="6654960" y="6116760"/>
              <a:ext cx="2520720" cy="768240"/>
            </a:xfrm>
            <a:custGeom>
              <a:avLst/>
              <a:gdLst/>
              <a:ahLst/>
              <a:rect l="l" t="t" r="r" b="b"/>
              <a:pathLst>
                <a:path w="2520950" h="907964">
                  <a:moveTo>
                    <a:pt x="151330" y="0"/>
                  </a:moveTo>
                  <a:lnTo>
                    <a:pt x="2369620" y="0"/>
                  </a:lnTo>
                  <a:lnTo>
                    <a:pt x="2520950" y="151330"/>
                  </a:lnTo>
                  <a:lnTo>
                    <a:pt x="2520950" y="907964"/>
                  </a:lnTo>
                  <a:lnTo>
                    <a:pt x="0" y="907964"/>
                  </a:lnTo>
                  <a:lnTo>
                    <a:pt x="0" y="151330"/>
                  </a:lnTo>
                  <a:cubicBezTo>
                    <a:pt x="0" y="67753"/>
                    <a:pt x="67753" y="0"/>
                    <a:pt x="151330" y="0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4" name="Imagem 12" descr=""/>
          <p:cNvPicPr/>
          <p:nvPr/>
        </p:nvPicPr>
        <p:blipFill>
          <a:blip r:embed="rId2"/>
          <a:stretch/>
        </p:blipFill>
        <p:spPr>
          <a:xfrm>
            <a:off x="6469200" y="6458040"/>
            <a:ext cx="2493720" cy="426960"/>
          </a:xfrm>
          <a:prstGeom prst="rect">
            <a:avLst/>
          </a:prstGeom>
          <a:ln w="0">
            <a:noFill/>
          </a:ln>
        </p:spPr>
      </p:pic>
      <p:sp>
        <p:nvSpPr>
          <p:cNvPr id="335" name="Rectangle 1"/>
          <p:cNvSpPr/>
          <p:nvPr/>
        </p:nvSpPr>
        <p:spPr>
          <a:xfrm>
            <a:off x="1657440" y="252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tângulo 4"/>
          <p:cNvSpPr/>
          <p:nvPr/>
        </p:nvSpPr>
        <p:spPr>
          <a:xfrm>
            <a:off x="179280" y="1023840"/>
            <a:ext cx="8786880" cy="49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Referências Bibliográf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BRASIL. Lei nº 5.194, de 24 de dezembro de 1966. Regula o exercício das profissões de Engenheiro, Arquiteto e Engenheiro Agrônomo, e dá outras providências. Disponível em: </a:t>
            </a:r>
            <a:r>
              <a:rPr b="0" lang="pt-BR" sz="25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http://www.planalto.gov.br/ccivil_03/Leis/L5194.htm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. Acesso em: 06 jun.2015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CERVO, A., BERVIAN, P. A., &amp; SILVA, R. (2006). </a:t>
            </a:r>
            <a:r>
              <a:rPr b="1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Metodologia Científica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 (6ª ed.). São Paulo: Pearson Prentice Hall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Espaço Reservado para Número de Slide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7ADCE-6C9D-4AA0-BB5A-AA1DA86DE7B0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2" descr="topo_saoMateus"/>
          <p:cNvPicPr/>
          <p:nvPr/>
        </p:nvPicPr>
        <p:blipFill>
          <a:blip r:embed="rId1"/>
          <a:stretch/>
        </p:blipFill>
        <p:spPr>
          <a:xfrm>
            <a:off x="179280" y="236520"/>
            <a:ext cx="8715600" cy="1104840"/>
          </a:xfrm>
          <a:prstGeom prst="rect">
            <a:avLst/>
          </a:prstGeom>
          <a:ln w="0">
            <a:noFill/>
          </a:ln>
        </p:spPr>
      </p:pic>
      <p:grpSp>
        <p:nvGrpSpPr>
          <p:cNvPr id="339" name="Grupo 3"/>
          <p:cNvGrpSpPr/>
          <p:nvPr/>
        </p:nvGrpSpPr>
        <p:grpSpPr>
          <a:xfrm>
            <a:off x="31680" y="6093000"/>
            <a:ext cx="9144000" cy="792000"/>
            <a:chOff x="31680" y="6093000"/>
            <a:chExt cx="9144000" cy="792000"/>
          </a:xfrm>
        </p:grpSpPr>
        <p:sp>
          <p:nvSpPr>
            <p:cNvPr id="340" name="Retângulo com Único Canto Aparado e Arredondado 4"/>
            <p:cNvSpPr/>
            <p:nvPr/>
          </p:nvSpPr>
          <p:spPr>
            <a:xfrm>
              <a:off x="31680" y="6093000"/>
              <a:ext cx="9144000" cy="768240"/>
            </a:xfrm>
            <a:custGeom>
              <a:avLst/>
              <a:gdLst/>
              <a:ahLst/>
              <a:rect l="l" t="t" r="r" b="b"/>
              <a:pathLst>
                <a:path w="9144000" h="907964">
                  <a:moveTo>
                    <a:pt x="151330" y="0"/>
                  </a:moveTo>
                  <a:lnTo>
                    <a:pt x="8992670" y="0"/>
                  </a:lnTo>
                  <a:lnTo>
                    <a:pt x="9144000" y="151330"/>
                  </a:lnTo>
                  <a:lnTo>
                    <a:pt x="9144000" y="907964"/>
                  </a:lnTo>
                  <a:lnTo>
                    <a:pt x="0" y="907964"/>
                  </a:lnTo>
                  <a:lnTo>
                    <a:pt x="0" y="151330"/>
                  </a:lnTo>
                  <a:cubicBezTo>
                    <a:pt x="0" y="67753"/>
                    <a:pt x="67753" y="0"/>
                    <a:pt x="151330" y="0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tângulo com Único Canto Aparado e Arredondado 5"/>
            <p:cNvSpPr/>
            <p:nvPr/>
          </p:nvSpPr>
          <p:spPr>
            <a:xfrm flipH="1">
              <a:off x="6654960" y="6116760"/>
              <a:ext cx="2520720" cy="768240"/>
            </a:xfrm>
            <a:custGeom>
              <a:avLst/>
              <a:gdLst/>
              <a:ahLst/>
              <a:rect l="l" t="t" r="r" b="b"/>
              <a:pathLst>
                <a:path w="2520950" h="907964">
                  <a:moveTo>
                    <a:pt x="151330" y="0"/>
                  </a:moveTo>
                  <a:lnTo>
                    <a:pt x="2369620" y="0"/>
                  </a:lnTo>
                  <a:lnTo>
                    <a:pt x="2520950" y="151330"/>
                  </a:lnTo>
                  <a:lnTo>
                    <a:pt x="2520950" y="907964"/>
                  </a:lnTo>
                  <a:lnTo>
                    <a:pt x="0" y="907964"/>
                  </a:lnTo>
                  <a:lnTo>
                    <a:pt x="0" y="151330"/>
                  </a:lnTo>
                  <a:cubicBezTo>
                    <a:pt x="0" y="67753"/>
                    <a:pt x="67753" y="0"/>
                    <a:pt x="151330" y="0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2" name="Imagem 12" descr=""/>
          <p:cNvPicPr/>
          <p:nvPr/>
        </p:nvPicPr>
        <p:blipFill>
          <a:blip r:embed="rId2"/>
          <a:stretch/>
        </p:blipFill>
        <p:spPr>
          <a:xfrm>
            <a:off x="6469200" y="6458040"/>
            <a:ext cx="2493720" cy="426960"/>
          </a:xfrm>
          <a:prstGeom prst="rect">
            <a:avLst/>
          </a:prstGeom>
          <a:ln w="0">
            <a:noFill/>
          </a:ln>
        </p:spPr>
      </p:pic>
      <p:sp>
        <p:nvSpPr>
          <p:cNvPr id="343" name="Rectangle 1"/>
          <p:cNvSpPr/>
          <p:nvPr/>
        </p:nvSpPr>
        <p:spPr>
          <a:xfrm>
            <a:off x="1657440" y="252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tângulo 4"/>
          <p:cNvSpPr/>
          <p:nvPr/>
        </p:nvSpPr>
        <p:spPr>
          <a:xfrm>
            <a:off x="179280" y="1023840"/>
            <a:ext cx="8786880" cy="43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Referências Bibliográf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DOLABELA, F. </a:t>
            </a:r>
            <a:r>
              <a:rPr b="1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O Segredo de Luísa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. Rio de Janeiro: Sextante, 2008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SURVEYMONKEY. Tamanho da amostra do questionário. Disponível em: </a:t>
            </a:r>
            <a:r>
              <a:rPr b="0" lang="pt-BR" sz="25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https://pt.surveymonkey.com/mp/sample-size/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. Acesso em 08 nov.2015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Espaço Reservado para Número de Slide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99547-3C3D-4771-A37D-15852F1B66D1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2" descr="topo_saoMateus"/>
          <p:cNvPicPr/>
          <p:nvPr/>
        </p:nvPicPr>
        <p:blipFill>
          <a:blip r:embed="rId1"/>
          <a:stretch/>
        </p:blipFill>
        <p:spPr>
          <a:xfrm>
            <a:off x="179280" y="236520"/>
            <a:ext cx="8715600" cy="1104840"/>
          </a:xfrm>
          <a:prstGeom prst="rect">
            <a:avLst/>
          </a:prstGeom>
          <a:ln w="0">
            <a:noFill/>
          </a:ln>
        </p:spPr>
      </p:pic>
      <p:grpSp>
        <p:nvGrpSpPr>
          <p:cNvPr id="347" name="Grupo 3"/>
          <p:cNvGrpSpPr/>
          <p:nvPr/>
        </p:nvGrpSpPr>
        <p:grpSpPr>
          <a:xfrm>
            <a:off x="31680" y="6093000"/>
            <a:ext cx="9144000" cy="792000"/>
            <a:chOff x="31680" y="6093000"/>
            <a:chExt cx="9144000" cy="792000"/>
          </a:xfrm>
        </p:grpSpPr>
        <p:sp>
          <p:nvSpPr>
            <p:cNvPr id="348" name="Retângulo com Único Canto Aparado e Arredondado 4"/>
            <p:cNvSpPr/>
            <p:nvPr/>
          </p:nvSpPr>
          <p:spPr>
            <a:xfrm>
              <a:off x="31680" y="6093000"/>
              <a:ext cx="9144000" cy="768240"/>
            </a:xfrm>
            <a:custGeom>
              <a:avLst/>
              <a:gdLst/>
              <a:ahLst/>
              <a:rect l="l" t="t" r="r" b="b"/>
              <a:pathLst>
                <a:path w="9144000" h="907964">
                  <a:moveTo>
                    <a:pt x="151330" y="0"/>
                  </a:moveTo>
                  <a:lnTo>
                    <a:pt x="8992670" y="0"/>
                  </a:lnTo>
                  <a:lnTo>
                    <a:pt x="9144000" y="151330"/>
                  </a:lnTo>
                  <a:lnTo>
                    <a:pt x="9144000" y="907964"/>
                  </a:lnTo>
                  <a:lnTo>
                    <a:pt x="0" y="907964"/>
                  </a:lnTo>
                  <a:lnTo>
                    <a:pt x="0" y="151330"/>
                  </a:lnTo>
                  <a:cubicBezTo>
                    <a:pt x="0" y="67753"/>
                    <a:pt x="67753" y="0"/>
                    <a:pt x="151330" y="0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tângulo com Único Canto Aparado e Arredondado 5"/>
            <p:cNvSpPr/>
            <p:nvPr/>
          </p:nvSpPr>
          <p:spPr>
            <a:xfrm flipH="1">
              <a:off x="6654960" y="6116760"/>
              <a:ext cx="2520720" cy="768240"/>
            </a:xfrm>
            <a:custGeom>
              <a:avLst/>
              <a:gdLst/>
              <a:ahLst/>
              <a:rect l="l" t="t" r="r" b="b"/>
              <a:pathLst>
                <a:path w="2520950" h="907964">
                  <a:moveTo>
                    <a:pt x="151330" y="0"/>
                  </a:moveTo>
                  <a:lnTo>
                    <a:pt x="2369620" y="0"/>
                  </a:lnTo>
                  <a:lnTo>
                    <a:pt x="2520950" y="151330"/>
                  </a:lnTo>
                  <a:lnTo>
                    <a:pt x="2520950" y="907964"/>
                  </a:lnTo>
                  <a:lnTo>
                    <a:pt x="0" y="907964"/>
                  </a:lnTo>
                  <a:lnTo>
                    <a:pt x="0" y="151330"/>
                  </a:lnTo>
                  <a:cubicBezTo>
                    <a:pt x="0" y="67753"/>
                    <a:pt x="67753" y="0"/>
                    <a:pt x="151330" y="0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0" name="Imagem 12" descr=""/>
          <p:cNvPicPr/>
          <p:nvPr/>
        </p:nvPicPr>
        <p:blipFill>
          <a:blip r:embed="rId2"/>
          <a:stretch/>
        </p:blipFill>
        <p:spPr>
          <a:xfrm>
            <a:off x="6469200" y="6458040"/>
            <a:ext cx="2493720" cy="426960"/>
          </a:xfrm>
          <a:prstGeom prst="rect">
            <a:avLst/>
          </a:prstGeom>
          <a:ln w="0">
            <a:noFill/>
          </a:ln>
        </p:spPr>
      </p:pic>
      <p:sp>
        <p:nvSpPr>
          <p:cNvPr id="351" name="Espaço Reservado para Número de Slide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AE1DC-BFDA-4527-9B80-35C211B56DEF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tângulo 9"/>
          <p:cNvSpPr/>
          <p:nvPr/>
        </p:nvSpPr>
        <p:spPr>
          <a:xfrm>
            <a:off x="900000" y="1916280"/>
            <a:ext cx="748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e os vossos esforços desafiem as impossibilidades, lembrai-vos de que as grandes coisas do homem foram conquistadas do que parecia impossível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harles Chap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topo_saoMateus"/>
          <p:cNvPicPr/>
          <p:nvPr/>
        </p:nvPicPr>
        <p:blipFill>
          <a:blip r:embed="rId1"/>
          <a:stretch/>
        </p:blipFill>
        <p:spPr>
          <a:xfrm>
            <a:off x="179280" y="236520"/>
            <a:ext cx="8715600" cy="1104840"/>
          </a:xfrm>
          <a:prstGeom prst="rect">
            <a:avLst/>
          </a:prstGeom>
          <a:ln w="0">
            <a:noFill/>
          </a:ln>
        </p:spPr>
      </p:pic>
      <p:grpSp>
        <p:nvGrpSpPr>
          <p:cNvPr id="72" name="Grupo 3"/>
          <p:cNvGrpSpPr/>
          <p:nvPr/>
        </p:nvGrpSpPr>
        <p:grpSpPr>
          <a:xfrm>
            <a:off x="31680" y="6093000"/>
            <a:ext cx="9144000" cy="792000"/>
            <a:chOff x="31680" y="6093000"/>
            <a:chExt cx="9144000" cy="792000"/>
          </a:xfrm>
        </p:grpSpPr>
        <p:sp>
          <p:nvSpPr>
            <p:cNvPr id="73" name="Retângulo com Único Canto Aparado e Arredondado 4"/>
            <p:cNvSpPr/>
            <p:nvPr/>
          </p:nvSpPr>
          <p:spPr>
            <a:xfrm>
              <a:off x="31680" y="6093000"/>
              <a:ext cx="9144000" cy="768240"/>
            </a:xfrm>
            <a:custGeom>
              <a:avLst/>
              <a:gdLst/>
              <a:ahLst/>
              <a:rect l="l" t="t" r="r" b="b"/>
              <a:pathLst>
                <a:path w="9144000" h="907964">
                  <a:moveTo>
                    <a:pt x="151330" y="0"/>
                  </a:moveTo>
                  <a:lnTo>
                    <a:pt x="8992670" y="0"/>
                  </a:lnTo>
                  <a:lnTo>
                    <a:pt x="9144000" y="151330"/>
                  </a:lnTo>
                  <a:lnTo>
                    <a:pt x="9144000" y="907964"/>
                  </a:lnTo>
                  <a:lnTo>
                    <a:pt x="0" y="907964"/>
                  </a:lnTo>
                  <a:lnTo>
                    <a:pt x="0" y="151330"/>
                  </a:lnTo>
                  <a:cubicBezTo>
                    <a:pt x="0" y="67753"/>
                    <a:pt x="67753" y="0"/>
                    <a:pt x="151330" y="0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tângulo com Único Canto Aparado e Arredondado 5"/>
            <p:cNvSpPr/>
            <p:nvPr/>
          </p:nvSpPr>
          <p:spPr>
            <a:xfrm flipH="1">
              <a:off x="6654960" y="6116760"/>
              <a:ext cx="2520720" cy="768240"/>
            </a:xfrm>
            <a:custGeom>
              <a:avLst/>
              <a:gdLst/>
              <a:ahLst/>
              <a:rect l="l" t="t" r="r" b="b"/>
              <a:pathLst>
                <a:path w="2520950" h="907964">
                  <a:moveTo>
                    <a:pt x="151330" y="0"/>
                  </a:moveTo>
                  <a:lnTo>
                    <a:pt x="2369620" y="0"/>
                  </a:lnTo>
                  <a:lnTo>
                    <a:pt x="2520950" y="151330"/>
                  </a:lnTo>
                  <a:lnTo>
                    <a:pt x="2520950" y="907964"/>
                  </a:lnTo>
                  <a:lnTo>
                    <a:pt x="0" y="907964"/>
                  </a:lnTo>
                  <a:lnTo>
                    <a:pt x="0" y="151330"/>
                  </a:lnTo>
                  <a:cubicBezTo>
                    <a:pt x="0" y="67753"/>
                    <a:pt x="67753" y="0"/>
                    <a:pt x="151330" y="0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" name="Imagem 12" descr=""/>
          <p:cNvPicPr/>
          <p:nvPr/>
        </p:nvPicPr>
        <p:blipFill>
          <a:blip r:embed="rId2"/>
          <a:stretch/>
        </p:blipFill>
        <p:spPr>
          <a:xfrm>
            <a:off x="6469200" y="6458040"/>
            <a:ext cx="2493720" cy="42696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1"/>
          <p:cNvSpPr/>
          <p:nvPr/>
        </p:nvSpPr>
        <p:spPr>
          <a:xfrm>
            <a:off x="1657440" y="252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tângulo 4"/>
          <p:cNvSpPr/>
          <p:nvPr/>
        </p:nvSpPr>
        <p:spPr>
          <a:xfrm>
            <a:off x="179280" y="1023840"/>
            <a:ext cx="8786880" cy="53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Delimitação do T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Para um estudo mais preciso, o foco da pesquisa será delimitado aos desafios que o engenheiro civil recém-formado encontrará com as exigências no mercado de trabalho do Município de São Mateus, com base nos formandos em Engenharia Civil da Faculdade Norte Capixaba de São Mateus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Espaço Reservado para Número de Slide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F527A-8F35-40D8-BA22-7F83510710F5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topo_saoMateus"/>
          <p:cNvPicPr/>
          <p:nvPr/>
        </p:nvPicPr>
        <p:blipFill>
          <a:blip r:embed="rId1"/>
          <a:stretch/>
        </p:blipFill>
        <p:spPr>
          <a:xfrm>
            <a:off x="179280" y="236520"/>
            <a:ext cx="8715600" cy="1104840"/>
          </a:xfrm>
          <a:prstGeom prst="rect">
            <a:avLst/>
          </a:prstGeom>
          <a:ln w="0">
            <a:noFill/>
          </a:ln>
        </p:spPr>
      </p:pic>
      <p:grpSp>
        <p:nvGrpSpPr>
          <p:cNvPr id="80" name="Grupo 3"/>
          <p:cNvGrpSpPr/>
          <p:nvPr/>
        </p:nvGrpSpPr>
        <p:grpSpPr>
          <a:xfrm>
            <a:off x="31680" y="6093000"/>
            <a:ext cx="9144000" cy="792000"/>
            <a:chOff x="31680" y="6093000"/>
            <a:chExt cx="9144000" cy="792000"/>
          </a:xfrm>
        </p:grpSpPr>
        <p:sp>
          <p:nvSpPr>
            <p:cNvPr id="81" name="Retângulo com Único Canto Aparado e Arredondado 4"/>
            <p:cNvSpPr/>
            <p:nvPr/>
          </p:nvSpPr>
          <p:spPr>
            <a:xfrm>
              <a:off x="31680" y="6093000"/>
              <a:ext cx="9144000" cy="768240"/>
            </a:xfrm>
            <a:custGeom>
              <a:avLst/>
              <a:gdLst/>
              <a:ahLst/>
              <a:rect l="l" t="t" r="r" b="b"/>
              <a:pathLst>
                <a:path w="9144000" h="907964">
                  <a:moveTo>
                    <a:pt x="151330" y="0"/>
                  </a:moveTo>
                  <a:lnTo>
                    <a:pt x="8992670" y="0"/>
                  </a:lnTo>
                  <a:lnTo>
                    <a:pt x="9144000" y="151330"/>
                  </a:lnTo>
                  <a:lnTo>
                    <a:pt x="9144000" y="907964"/>
                  </a:lnTo>
                  <a:lnTo>
                    <a:pt x="0" y="907964"/>
                  </a:lnTo>
                  <a:lnTo>
                    <a:pt x="0" y="151330"/>
                  </a:lnTo>
                  <a:cubicBezTo>
                    <a:pt x="0" y="67753"/>
                    <a:pt x="67753" y="0"/>
                    <a:pt x="151330" y="0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tângulo com Único Canto Aparado e Arredondado 5"/>
            <p:cNvSpPr/>
            <p:nvPr/>
          </p:nvSpPr>
          <p:spPr>
            <a:xfrm flipH="1">
              <a:off x="6654960" y="6116760"/>
              <a:ext cx="2520720" cy="768240"/>
            </a:xfrm>
            <a:custGeom>
              <a:avLst/>
              <a:gdLst/>
              <a:ahLst/>
              <a:rect l="l" t="t" r="r" b="b"/>
              <a:pathLst>
                <a:path w="2520950" h="907964">
                  <a:moveTo>
                    <a:pt x="151330" y="0"/>
                  </a:moveTo>
                  <a:lnTo>
                    <a:pt x="2369620" y="0"/>
                  </a:lnTo>
                  <a:lnTo>
                    <a:pt x="2520950" y="151330"/>
                  </a:lnTo>
                  <a:lnTo>
                    <a:pt x="2520950" y="907964"/>
                  </a:lnTo>
                  <a:lnTo>
                    <a:pt x="0" y="907964"/>
                  </a:lnTo>
                  <a:lnTo>
                    <a:pt x="0" y="151330"/>
                  </a:lnTo>
                  <a:cubicBezTo>
                    <a:pt x="0" y="67753"/>
                    <a:pt x="67753" y="0"/>
                    <a:pt x="151330" y="0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" name="Imagem 12" descr=""/>
          <p:cNvPicPr/>
          <p:nvPr/>
        </p:nvPicPr>
        <p:blipFill>
          <a:blip r:embed="rId2"/>
          <a:stretch/>
        </p:blipFill>
        <p:spPr>
          <a:xfrm>
            <a:off x="6469200" y="6458040"/>
            <a:ext cx="2493720" cy="42696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1"/>
          <p:cNvSpPr/>
          <p:nvPr/>
        </p:nvSpPr>
        <p:spPr>
          <a:xfrm>
            <a:off x="1657440" y="252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tângulo 4"/>
          <p:cNvSpPr/>
          <p:nvPr/>
        </p:nvSpPr>
        <p:spPr>
          <a:xfrm>
            <a:off x="179280" y="1023840"/>
            <a:ext cx="8786880" cy="33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Formulação do Probl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Buscou-se reunir informações com a finalidade de responder ao seguinte problema da pesquisa: Quais os desafios dos Engenheiros Civis recém-formad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Espaço Reservado para Número de Slide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A14D5-ABFF-49D1-B0DD-24DC1061E499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topo_saoMateus"/>
          <p:cNvPicPr/>
          <p:nvPr/>
        </p:nvPicPr>
        <p:blipFill>
          <a:blip r:embed="rId1"/>
          <a:stretch/>
        </p:blipFill>
        <p:spPr>
          <a:xfrm>
            <a:off x="179280" y="236520"/>
            <a:ext cx="8715600" cy="1104840"/>
          </a:xfrm>
          <a:prstGeom prst="rect">
            <a:avLst/>
          </a:prstGeom>
          <a:ln w="0">
            <a:noFill/>
          </a:ln>
        </p:spPr>
      </p:pic>
      <p:grpSp>
        <p:nvGrpSpPr>
          <p:cNvPr id="88" name="Grupo 3"/>
          <p:cNvGrpSpPr/>
          <p:nvPr/>
        </p:nvGrpSpPr>
        <p:grpSpPr>
          <a:xfrm>
            <a:off x="31680" y="6093000"/>
            <a:ext cx="9144000" cy="792000"/>
            <a:chOff x="31680" y="6093000"/>
            <a:chExt cx="9144000" cy="792000"/>
          </a:xfrm>
        </p:grpSpPr>
        <p:sp>
          <p:nvSpPr>
            <p:cNvPr id="89" name="Retângulo com Único Canto Aparado e Arredondado 4"/>
            <p:cNvSpPr/>
            <p:nvPr/>
          </p:nvSpPr>
          <p:spPr>
            <a:xfrm>
              <a:off x="31680" y="6093000"/>
              <a:ext cx="9144000" cy="768240"/>
            </a:xfrm>
            <a:custGeom>
              <a:avLst/>
              <a:gdLst/>
              <a:ahLst/>
              <a:rect l="l" t="t" r="r" b="b"/>
              <a:pathLst>
                <a:path w="9144000" h="907964">
                  <a:moveTo>
                    <a:pt x="151330" y="0"/>
                  </a:moveTo>
                  <a:lnTo>
                    <a:pt x="8992670" y="0"/>
                  </a:lnTo>
                  <a:lnTo>
                    <a:pt x="9144000" y="151330"/>
                  </a:lnTo>
                  <a:lnTo>
                    <a:pt x="9144000" y="907964"/>
                  </a:lnTo>
                  <a:lnTo>
                    <a:pt x="0" y="907964"/>
                  </a:lnTo>
                  <a:lnTo>
                    <a:pt x="0" y="151330"/>
                  </a:lnTo>
                  <a:cubicBezTo>
                    <a:pt x="0" y="67753"/>
                    <a:pt x="67753" y="0"/>
                    <a:pt x="151330" y="0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tângulo com Único Canto Aparado e Arredondado 5"/>
            <p:cNvSpPr/>
            <p:nvPr/>
          </p:nvSpPr>
          <p:spPr>
            <a:xfrm flipH="1">
              <a:off x="6654960" y="6116760"/>
              <a:ext cx="2520720" cy="768240"/>
            </a:xfrm>
            <a:custGeom>
              <a:avLst/>
              <a:gdLst/>
              <a:ahLst/>
              <a:rect l="l" t="t" r="r" b="b"/>
              <a:pathLst>
                <a:path w="2520950" h="907964">
                  <a:moveTo>
                    <a:pt x="151330" y="0"/>
                  </a:moveTo>
                  <a:lnTo>
                    <a:pt x="2369620" y="0"/>
                  </a:lnTo>
                  <a:lnTo>
                    <a:pt x="2520950" y="151330"/>
                  </a:lnTo>
                  <a:lnTo>
                    <a:pt x="2520950" y="907964"/>
                  </a:lnTo>
                  <a:lnTo>
                    <a:pt x="0" y="907964"/>
                  </a:lnTo>
                  <a:lnTo>
                    <a:pt x="0" y="151330"/>
                  </a:lnTo>
                  <a:cubicBezTo>
                    <a:pt x="0" y="67753"/>
                    <a:pt x="67753" y="0"/>
                    <a:pt x="151330" y="0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" name="Imagem 12" descr=""/>
          <p:cNvPicPr/>
          <p:nvPr/>
        </p:nvPicPr>
        <p:blipFill>
          <a:blip r:embed="rId2"/>
          <a:stretch/>
        </p:blipFill>
        <p:spPr>
          <a:xfrm>
            <a:off x="6469200" y="6458040"/>
            <a:ext cx="2493720" cy="4269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"/>
          <p:cNvSpPr/>
          <p:nvPr/>
        </p:nvSpPr>
        <p:spPr>
          <a:xfrm>
            <a:off x="1657440" y="252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tângulo 4"/>
          <p:cNvSpPr/>
          <p:nvPr/>
        </p:nvSpPr>
        <p:spPr>
          <a:xfrm>
            <a:off x="179280" y="1023840"/>
            <a:ext cx="8786880" cy="36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Objetivo G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Compreender as dificuldades dos alunos recém-formados em Engenharia Civil da Faculdade Norte Capixaba de São Mateu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Espaço Reservado para Número de Slide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F3CC1-C77A-4FC1-9BA0-7049B7E26801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topo_saoMateus"/>
          <p:cNvPicPr/>
          <p:nvPr/>
        </p:nvPicPr>
        <p:blipFill>
          <a:blip r:embed="rId1"/>
          <a:stretch/>
        </p:blipFill>
        <p:spPr>
          <a:xfrm>
            <a:off x="179280" y="236520"/>
            <a:ext cx="8715600" cy="1104840"/>
          </a:xfrm>
          <a:prstGeom prst="rect">
            <a:avLst/>
          </a:prstGeom>
          <a:ln w="0">
            <a:noFill/>
          </a:ln>
        </p:spPr>
      </p:pic>
      <p:grpSp>
        <p:nvGrpSpPr>
          <p:cNvPr id="96" name="Grupo 3"/>
          <p:cNvGrpSpPr/>
          <p:nvPr/>
        </p:nvGrpSpPr>
        <p:grpSpPr>
          <a:xfrm>
            <a:off x="31680" y="6093000"/>
            <a:ext cx="9144000" cy="792000"/>
            <a:chOff x="31680" y="6093000"/>
            <a:chExt cx="9144000" cy="792000"/>
          </a:xfrm>
        </p:grpSpPr>
        <p:sp>
          <p:nvSpPr>
            <p:cNvPr id="97" name="Retângulo com Único Canto Aparado e Arredondado 4"/>
            <p:cNvSpPr/>
            <p:nvPr/>
          </p:nvSpPr>
          <p:spPr>
            <a:xfrm>
              <a:off x="31680" y="6093000"/>
              <a:ext cx="9144000" cy="768240"/>
            </a:xfrm>
            <a:custGeom>
              <a:avLst/>
              <a:gdLst/>
              <a:ahLst/>
              <a:rect l="l" t="t" r="r" b="b"/>
              <a:pathLst>
                <a:path w="9144000" h="907964">
                  <a:moveTo>
                    <a:pt x="151330" y="0"/>
                  </a:moveTo>
                  <a:lnTo>
                    <a:pt x="8992670" y="0"/>
                  </a:lnTo>
                  <a:lnTo>
                    <a:pt x="9144000" y="151330"/>
                  </a:lnTo>
                  <a:lnTo>
                    <a:pt x="9144000" y="907964"/>
                  </a:lnTo>
                  <a:lnTo>
                    <a:pt x="0" y="907964"/>
                  </a:lnTo>
                  <a:lnTo>
                    <a:pt x="0" y="151330"/>
                  </a:lnTo>
                  <a:cubicBezTo>
                    <a:pt x="0" y="67753"/>
                    <a:pt x="67753" y="0"/>
                    <a:pt x="151330" y="0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tângulo com Único Canto Aparado e Arredondado 5"/>
            <p:cNvSpPr/>
            <p:nvPr/>
          </p:nvSpPr>
          <p:spPr>
            <a:xfrm flipH="1">
              <a:off x="6654960" y="6116760"/>
              <a:ext cx="2520720" cy="768240"/>
            </a:xfrm>
            <a:custGeom>
              <a:avLst/>
              <a:gdLst/>
              <a:ahLst/>
              <a:rect l="l" t="t" r="r" b="b"/>
              <a:pathLst>
                <a:path w="2520950" h="907964">
                  <a:moveTo>
                    <a:pt x="151330" y="0"/>
                  </a:moveTo>
                  <a:lnTo>
                    <a:pt x="2369620" y="0"/>
                  </a:lnTo>
                  <a:lnTo>
                    <a:pt x="2520950" y="151330"/>
                  </a:lnTo>
                  <a:lnTo>
                    <a:pt x="2520950" y="907964"/>
                  </a:lnTo>
                  <a:lnTo>
                    <a:pt x="0" y="907964"/>
                  </a:lnTo>
                  <a:lnTo>
                    <a:pt x="0" y="151330"/>
                  </a:lnTo>
                  <a:cubicBezTo>
                    <a:pt x="0" y="67753"/>
                    <a:pt x="67753" y="0"/>
                    <a:pt x="151330" y="0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9" name="Imagem 12" descr=""/>
          <p:cNvPicPr/>
          <p:nvPr/>
        </p:nvPicPr>
        <p:blipFill>
          <a:blip r:embed="rId2"/>
          <a:stretch/>
        </p:blipFill>
        <p:spPr>
          <a:xfrm>
            <a:off x="6469200" y="6458040"/>
            <a:ext cx="2493720" cy="4269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"/>
          <p:cNvSpPr/>
          <p:nvPr/>
        </p:nvSpPr>
        <p:spPr>
          <a:xfrm>
            <a:off x="1657440" y="252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tângulo 4"/>
          <p:cNvSpPr/>
          <p:nvPr/>
        </p:nvSpPr>
        <p:spPr>
          <a:xfrm>
            <a:off x="179280" y="1023840"/>
            <a:ext cx="8786880" cy="63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Objetivos Específ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Identificar as dificuldades dos alunos recém-formados em Engenharia Civil no mercado de trabalho de São Mateu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Descrever as experiências de engenheiros civis atuantes na área civil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Discutir como minimizar as dificuldades do recém-formado com base nas experiências dos profissionais atuant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Espaço Reservado para Número de Slide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826ED-8FE3-4AC9-8CD7-465DA3493F0C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topo_saoMateus"/>
          <p:cNvPicPr/>
          <p:nvPr/>
        </p:nvPicPr>
        <p:blipFill>
          <a:blip r:embed="rId1"/>
          <a:stretch/>
        </p:blipFill>
        <p:spPr>
          <a:xfrm>
            <a:off x="179280" y="236520"/>
            <a:ext cx="8715600" cy="1104840"/>
          </a:xfrm>
          <a:prstGeom prst="rect">
            <a:avLst/>
          </a:prstGeom>
          <a:ln w="0">
            <a:noFill/>
          </a:ln>
        </p:spPr>
      </p:pic>
      <p:grpSp>
        <p:nvGrpSpPr>
          <p:cNvPr id="104" name="Grupo 3"/>
          <p:cNvGrpSpPr/>
          <p:nvPr/>
        </p:nvGrpSpPr>
        <p:grpSpPr>
          <a:xfrm>
            <a:off x="31680" y="6093000"/>
            <a:ext cx="9144000" cy="792000"/>
            <a:chOff x="31680" y="6093000"/>
            <a:chExt cx="9144000" cy="792000"/>
          </a:xfrm>
        </p:grpSpPr>
        <p:sp>
          <p:nvSpPr>
            <p:cNvPr id="105" name="Retângulo com Único Canto Aparado e Arredondado 4"/>
            <p:cNvSpPr/>
            <p:nvPr/>
          </p:nvSpPr>
          <p:spPr>
            <a:xfrm>
              <a:off x="31680" y="6093000"/>
              <a:ext cx="9144000" cy="768240"/>
            </a:xfrm>
            <a:custGeom>
              <a:avLst/>
              <a:gdLst/>
              <a:ahLst/>
              <a:rect l="l" t="t" r="r" b="b"/>
              <a:pathLst>
                <a:path w="9144000" h="907964">
                  <a:moveTo>
                    <a:pt x="151330" y="0"/>
                  </a:moveTo>
                  <a:lnTo>
                    <a:pt x="8992670" y="0"/>
                  </a:lnTo>
                  <a:lnTo>
                    <a:pt x="9144000" y="151330"/>
                  </a:lnTo>
                  <a:lnTo>
                    <a:pt x="9144000" y="907964"/>
                  </a:lnTo>
                  <a:lnTo>
                    <a:pt x="0" y="907964"/>
                  </a:lnTo>
                  <a:lnTo>
                    <a:pt x="0" y="151330"/>
                  </a:lnTo>
                  <a:cubicBezTo>
                    <a:pt x="0" y="67753"/>
                    <a:pt x="67753" y="0"/>
                    <a:pt x="151330" y="0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tângulo com Único Canto Aparado e Arredondado 5"/>
            <p:cNvSpPr/>
            <p:nvPr/>
          </p:nvSpPr>
          <p:spPr>
            <a:xfrm flipH="1">
              <a:off x="6654960" y="6116760"/>
              <a:ext cx="2520720" cy="768240"/>
            </a:xfrm>
            <a:custGeom>
              <a:avLst/>
              <a:gdLst/>
              <a:ahLst/>
              <a:rect l="l" t="t" r="r" b="b"/>
              <a:pathLst>
                <a:path w="2520950" h="907964">
                  <a:moveTo>
                    <a:pt x="151330" y="0"/>
                  </a:moveTo>
                  <a:lnTo>
                    <a:pt x="2369620" y="0"/>
                  </a:lnTo>
                  <a:lnTo>
                    <a:pt x="2520950" y="151330"/>
                  </a:lnTo>
                  <a:lnTo>
                    <a:pt x="2520950" y="907964"/>
                  </a:lnTo>
                  <a:lnTo>
                    <a:pt x="0" y="907964"/>
                  </a:lnTo>
                  <a:lnTo>
                    <a:pt x="0" y="151330"/>
                  </a:lnTo>
                  <a:cubicBezTo>
                    <a:pt x="0" y="67753"/>
                    <a:pt x="67753" y="0"/>
                    <a:pt x="151330" y="0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Imagem 12" descr=""/>
          <p:cNvPicPr/>
          <p:nvPr/>
        </p:nvPicPr>
        <p:blipFill>
          <a:blip r:embed="rId2"/>
          <a:stretch/>
        </p:blipFill>
        <p:spPr>
          <a:xfrm>
            <a:off x="6469200" y="6458040"/>
            <a:ext cx="2493720" cy="42696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1"/>
          <p:cNvSpPr/>
          <p:nvPr/>
        </p:nvSpPr>
        <p:spPr>
          <a:xfrm>
            <a:off x="1657440" y="252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tângulo 4"/>
          <p:cNvSpPr/>
          <p:nvPr/>
        </p:nvSpPr>
        <p:spPr>
          <a:xfrm>
            <a:off x="179280" y="1023840"/>
            <a:ext cx="8786880" cy="62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Metodolog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Para o desenvolvimento deste trabalho foram utilizadas pesquisas bibliográficas e estudo de caso. A pesquisa bibliográfica baseou-se em livros na área de Engenharia, Empreendedorismo e Gestão. O estudo de caso foi desenvolvido através de questionários, envolvendo recém-formados e engenheiros civis atuant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Espaço Reservado para Número de Slide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52FD0-25F2-480B-BB6A-70717F27A312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topo_saoMateus"/>
          <p:cNvPicPr/>
          <p:nvPr/>
        </p:nvPicPr>
        <p:blipFill>
          <a:blip r:embed="rId1"/>
          <a:stretch/>
        </p:blipFill>
        <p:spPr>
          <a:xfrm>
            <a:off x="179280" y="236520"/>
            <a:ext cx="8715600" cy="1104840"/>
          </a:xfrm>
          <a:prstGeom prst="rect">
            <a:avLst/>
          </a:prstGeom>
          <a:ln w="0">
            <a:noFill/>
          </a:ln>
        </p:spPr>
      </p:pic>
      <p:grpSp>
        <p:nvGrpSpPr>
          <p:cNvPr id="112" name="Grupo 3"/>
          <p:cNvGrpSpPr/>
          <p:nvPr/>
        </p:nvGrpSpPr>
        <p:grpSpPr>
          <a:xfrm>
            <a:off x="31680" y="6093000"/>
            <a:ext cx="9144000" cy="792000"/>
            <a:chOff x="31680" y="6093000"/>
            <a:chExt cx="9144000" cy="792000"/>
          </a:xfrm>
        </p:grpSpPr>
        <p:sp>
          <p:nvSpPr>
            <p:cNvPr id="113" name="Retângulo com Único Canto Aparado e Arredondado 4"/>
            <p:cNvSpPr/>
            <p:nvPr/>
          </p:nvSpPr>
          <p:spPr>
            <a:xfrm>
              <a:off x="31680" y="6093000"/>
              <a:ext cx="9144000" cy="768240"/>
            </a:xfrm>
            <a:custGeom>
              <a:avLst/>
              <a:gdLst/>
              <a:ahLst/>
              <a:rect l="l" t="t" r="r" b="b"/>
              <a:pathLst>
                <a:path w="9144000" h="907964">
                  <a:moveTo>
                    <a:pt x="151330" y="0"/>
                  </a:moveTo>
                  <a:lnTo>
                    <a:pt x="8992670" y="0"/>
                  </a:lnTo>
                  <a:lnTo>
                    <a:pt x="9144000" y="151330"/>
                  </a:lnTo>
                  <a:lnTo>
                    <a:pt x="9144000" y="907964"/>
                  </a:lnTo>
                  <a:lnTo>
                    <a:pt x="0" y="907964"/>
                  </a:lnTo>
                  <a:lnTo>
                    <a:pt x="0" y="151330"/>
                  </a:lnTo>
                  <a:cubicBezTo>
                    <a:pt x="0" y="67753"/>
                    <a:pt x="67753" y="0"/>
                    <a:pt x="151330" y="0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tângulo com Único Canto Aparado e Arredondado 5"/>
            <p:cNvSpPr/>
            <p:nvPr/>
          </p:nvSpPr>
          <p:spPr>
            <a:xfrm flipH="1">
              <a:off x="6654960" y="6116760"/>
              <a:ext cx="2520720" cy="768240"/>
            </a:xfrm>
            <a:custGeom>
              <a:avLst/>
              <a:gdLst/>
              <a:ahLst/>
              <a:rect l="l" t="t" r="r" b="b"/>
              <a:pathLst>
                <a:path w="2520950" h="907964">
                  <a:moveTo>
                    <a:pt x="151330" y="0"/>
                  </a:moveTo>
                  <a:lnTo>
                    <a:pt x="2369620" y="0"/>
                  </a:lnTo>
                  <a:lnTo>
                    <a:pt x="2520950" y="151330"/>
                  </a:lnTo>
                  <a:lnTo>
                    <a:pt x="2520950" y="907964"/>
                  </a:lnTo>
                  <a:lnTo>
                    <a:pt x="0" y="907964"/>
                  </a:lnTo>
                  <a:lnTo>
                    <a:pt x="0" y="151330"/>
                  </a:lnTo>
                  <a:cubicBezTo>
                    <a:pt x="0" y="67753"/>
                    <a:pt x="67753" y="0"/>
                    <a:pt x="151330" y="0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5" name="Imagem 12" descr=""/>
          <p:cNvPicPr/>
          <p:nvPr/>
        </p:nvPicPr>
        <p:blipFill>
          <a:blip r:embed="rId2"/>
          <a:stretch/>
        </p:blipFill>
        <p:spPr>
          <a:xfrm>
            <a:off x="6469200" y="6458040"/>
            <a:ext cx="2493720" cy="42696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1"/>
          <p:cNvSpPr/>
          <p:nvPr/>
        </p:nvSpPr>
        <p:spPr>
          <a:xfrm>
            <a:off x="1657440" y="252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tângulo 4"/>
          <p:cNvSpPr/>
          <p:nvPr/>
        </p:nvSpPr>
        <p:spPr>
          <a:xfrm>
            <a:off x="179280" y="1023840"/>
            <a:ext cx="878688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OS DESAFIOS DOS ENGENHEIROS CIVIS RECÉM-FORMADOS: ESTUDO DE CASO DA FACULDADE NORTE CAPIXABA DE SÃO MATEU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Introd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ferencial Teór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Apresentação e Análise de Dados/Estudo de Ca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Conclusão e Recomend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Referências Bibliográfic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Espaço Reservado para Número de Slide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3D6FC-9271-435B-9186-A2FA010D72B3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3T16:41:27Z</dcterms:created>
  <dc:creator>André Ferreira da Silva</dc:creator>
  <dc:description/>
  <dc:language>en-US</dc:language>
  <cp:lastModifiedBy>JLUIS</cp:lastModifiedBy>
  <dcterms:modified xsi:type="dcterms:W3CDTF">2019-01-09T17:38:26Z</dcterms:modified>
  <cp:revision>428</cp:revision>
  <dc:subject/>
  <dc:title>Slide 1</dc:title>
</cp:coreProperties>
</file>