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CA04-97C5-4BEB-8AF0-40BAC1E97E6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9F28-27BC-495E-9032-B7C9C4B7EFE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0983-D017-47DD-B0C6-631381D3771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26D-8D47-4816-9C2F-4BAD40B3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3DA-E7A2-40CD-8373-CECECB90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E6A-529F-4414-9BE8-2D020D16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C30-A1CE-4961-863B-9EF2EAE2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8DC-D1FA-46BB-B9E1-12B5ED3B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C79-5FC3-476D-A398-23A92780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EA0-CAB0-42D2-81D2-04C2A5D6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1B0-19B6-4237-83BF-59369D42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9BB-9724-412C-8C70-34ADF852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DE5-F4EE-40B8-9CBB-BCA85411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BCD-92E5-4C98-ACA1-328D9D03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933-A7B3-486C-ABA2-BD4B2650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4666-778C-471E-9415-133531E5E1E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C0AD-8E6F-4C69-A51E-F335A9CCC06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planalto.gov.br/ccivil_03/Leis/L5194.htm" TargetMode="Externa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s://pt.surveymonkey.com/mp/sample-size/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5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53" name="Retângulo 4"/>
          <p:cNvSpPr/>
          <p:nvPr/>
        </p:nvSpPr>
        <p:spPr>
          <a:xfrm>
            <a:off x="357120" y="620640"/>
            <a:ext cx="8786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manda Borghi Barb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anieli Santos Ty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rientadora: Janaelly Leite Cuper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zemb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5FAF-ABFD-453F-8D60-EFD8546F768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20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21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tângulo 4"/>
          <p:cNvSpPr/>
          <p:nvPr/>
        </p:nvSpPr>
        <p:spPr>
          <a:xfrm>
            <a:off x="179280" y="1023840"/>
            <a:ext cx="878688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pítulo 1 – Atribuições do Engenheir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erfil do Engenheiro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xercício da profissã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xperiênc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3C33-6DD8-47F7-93ED-901CDA6A088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2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2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4"/>
          <p:cNvSpPr/>
          <p:nvPr/>
        </p:nvSpPr>
        <p:spPr>
          <a:xfrm>
            <a:off x="179280" y="1023840"/>
            <a:ext cx="87868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pítulo 2 – Desafios comuns dos Engenheiros Civis na at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reocupação dos recém-formado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ficiência profissional 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Relações interpessoa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301D-9BCF-44CE-9BFA-F704280FE3F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37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4"/>
          <p:cNvSpPr/>
          <p:nvPr/>
        </p:nvSpPr>
        <p:spPr>
          <a:xfrm>
            <a:off x="179280" y="1023840"/>
            <a:ext cx="87868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pítulo  3 – O mercado de trabalho e suas exigências em relação ao Engenheir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Solicitações do mercado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Busca pelo diferencial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omprometimen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AFC-2094-45C8-9198-3AA85276310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topo_saoMateus"/>
          <p:cNvPicPr/>
          <p:nvPr/>
        </p:nvPicPr>
        <p:blipFill>
          <a:blip r:embed="rId1"/>
          <a:stretch/>
        </p:blipFill>
        <p:spPr>
          <a:xfrm>
            <a:off x="0" y="333360"/>
            <a:ext cx="871524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44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45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tângulo 4"/>
          <p:cNvSpPr/>
          <p:nvPr/>
        </p:nvSpPr>
        <p:spPr>
          <a:xfrm>
            <a:off x="179280" y="1023840"/>
            <a:ext cx="878688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EA6C-B126-45B7-8CE7-7352DDE2A11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53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ângulo 4"/>
          <p:cNvSpPr/>
          <p:nvPr/>
        </p:nvSpPr>
        <p:spPr>
          <a:xfrm>
            <a:off x="179280" y="1023840"/>
            <a:ext cx="87868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s sujeitos de pesquisa foram os alunos do décimo período do Curso de Graduação em Engenharia Civil do turno noturno, da Faculdade Norte Capixaba de São Mateus e Engenheiros Civis atuantes no mercado de trabalho de São Mateus-ES.  Total de 57 alunos e 23 profiss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3752-64BF-4463-AB52-7DBE49400F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60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61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2"/>
          <p:cNvSpPr/>
          <p:nvPr/>
        </p:nvSpPr>
        <p:spPr>
          <a:xfrm>
            <a:off x="179280" y="2965320"/>
            <a:ext cx="8715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Identificar as dificuldades dos alunos recém-formados em Engenharia Civil no mercado de trabalho de São Mate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CC00-12FA-4C52-976C-44D7F723685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7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tângulo 4"/>
          <p:cNvSpPr/>
          <p:nvPr/>
        </p:nvSpPr>
        <p:spPr>
          <a:xfrm>
            <a:off x="179280" y="102384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"Estou preparado para atuar no mercado de trabalho como Engenheiro (a) Civil.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m 8" descr=""/>
          <p:cNvPicPr/>
          <p:nvPr/>
        </p:nvPicPr>
        <p:blipFill>
          <a:blip r:embed="rId3"/>
          <a:stretch/>
        </p:blipFill>
        <p:spPr>
          <a:xfrm>
            <a:off x="1149480" y="2986200"/>
            <a:ext cx="6908760" cy="2682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76" name="Retângulo 1"/>
          <p:cNvSpPr/>
          <p:nvPr/>
        </p:nvSpPr>
        <p:spPr>
          <a:xfrm>
            <a:off x="1082520" y="5732640"/>
            <a:ext cx="69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1 - Análise dos entrevistados quanto ao seu preparo para atuação, p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Número de Slid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0982-8368-4DA2-BE72-BDC0FF2B583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7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8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tângulo 1"/>
          <p:cNvSpPr/>
          <p:nvPr/>
        </p:nvSpPr>
        <p:spPr>
          <a:xfrm>
            <a:off x="611280" y="2637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Marque abaixo qual das dificuldades você prevê que um recém formado passará após finalizar a graduação em Engenharia Civil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Imagem 9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7632720" cy="1870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87" name="Retângulo 2"/>
          <p:cNvSpPr/>
          <p:nvPr/>
        </p:nvSpPr>
        <p:spPr>
          <a:xfrm>
            <a:off x="611280" y="544500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4 - Dificuldades previstas, p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FAEA-0371-46FB-A7E8-01B08309717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91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94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tângulo 1"/>
          <p:cNvSpPr/>
          <p:nvPr/>
        </p:nvSpPr>
        <p:spPr>
          <a:xfrm>
            <a:off x="468360" y="2637000"/>
            <a:ext cx="84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Na sua opinião, descreva qual o principal desafio do engenheiro civil recém formado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tângulo 2"/>
          <p:cNvSpPr/>
          <p:nvPr/>
        </p:nvSpPr>
        <p:spPr>
          <a:xfrm>
            <a:off x="2592360" y="3573360"/>
            <a:ext cx="4572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desafios levan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egur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rcado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lta de experi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67C8-ACBF-4FE6-8286-68E8911A5A8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0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tângulo 2"/>
          <p:cNvSpPr/>
          <p:nvPr/>
        </p:nvSpPr>
        <p:spPr>
          <a:xfrm>
            <a:off x="179280" y="2965320"/>
            <a:ext cx="8715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screver as experiências de engenheiros civis atuantes na área civi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F127-52CD-488D-8C90-D46AF059F12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56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57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4"/>
          <p:cNvSpPr/>
          <p:nvPr/>
        </p:nvSpPr>
        <p:spPr>
          <a:xfrm>
            <a:off x="179280" y="1023840"/>
            <a:ext cx="878688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B98C-5B6F-4B71-82CF-7CB1C443AC3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0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0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12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ângulo 1"/>
          <p:cNvSpPr/>
          <p:nvPr/>
        </p:nvSpPr>
        <p:spPr>
          <a:xfrm>
            <a:off x="179280" y="277164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Houve insegurança ao ingressar no mercado de trabalho?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m 9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8137440" cy="2232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15" name="Retângulo 2"/>
          <p:cNvSpPr/>
          <p:nvPr/>
        </p:nvSpPr>
        <p:spPr>
          <a:xfrm>
            <a:off x="395280" y="5402160"/>
            <a:ext cx="79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5 - Análise dos profissionais quanto a sua ingressão no mercado, p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ço Reservado para Número de Slid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21AA-4A40-43E6-B738-528E43D9221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1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1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22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tângulo 1"/>
          <p:cNvSpPr/>
          <p:nvPr/>
        </p:nvSpPr>
        <p:spPr>
          <a:xfrm>
            <a:off x="179280" y="249408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Para você o que é fundamental para o crescimento individual do engenheiro(a) civil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agem 9" descr=""/>
          <p:cNvPicPr/>
          <p:nvPr/>
        </p:nvPicPr>
        <p:blipFill>
          <a:blip r:embed="rId3"/>
          <a:stretch/>
        </p:blipFill>
        <p:spPr>
          <a:xfrm>
            <a:off x="324000" y="3141720"/>
            <a:ext cx="8135640" cy="2016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25" name="Retângulo 2"/>
          <p:cNvSpPr/>
          <p:nvPr/>
        </p:nvSpPr>
        <p:spPr>
          <a:xfrm>
            <a:off x="324000" y="5300640"/>
            <a:ext cx="81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9 - Fator importante para o crescimento do engenheiro, p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ço Reservado para Número de Slid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E626-0D77-405E-B485-13ABE664EDF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2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tângulo 1"/>
          <p:cNvSpPr/>
          <p:nvPr/>
        </p:nvSpPr>
        <p:spPr>
          <a:xfrm>
            <a:off x="179280" y="263844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Marque abaixo qual das dificuldades você passou após finalizar a graduação em Engenharia Civil.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m 9" descr=""/>
          <p:cNvPicPr/>
          <p:nvPr/>
        </p:nvPicPr>
        <p:blipFill>
          <a:blip r:embed="rId3"/>
          <a:stretch/>
        </p:blipFill>
        <p:spPr>
          <a:xfrm>
            <a:off x="252360" y="3429000"/>
            <a:ext cx="8352000" cy="1871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36" name="Retângulo 2"/>
          <p:cNvSpPr/>
          <p:nvPr/>
        </p:nvSpPr>
        <p:spPr>
          <a:xfrm>
            <a:off x="255960" y="5445000"/>
            <a:ext cx="357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áfico 10 - Dificuldades enfrentadas, p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ço Reservado para Número de Slide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6BB9-D99F-4862-8B35-EF32A527061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3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4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43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tângulo 1"/>
          <p:cNvSpPr/>
          <p:nvPr/>
        </p:nvSpPr>
        <p:spPr>
          <a:xfrm>
            <a:off x="179280" y="270828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Baseado na sua experiência como engenheiro civil, qual conselho daria para os recém-formados?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ângulo 2"/>
          <p:cNvSpPr/>
          <p:nvPr/>
        </p:nvSpPr>
        <p:spPr>
          <a:xfrm>
            <a:off x="2376360" y="3502080"/>
            <a:ext cx="457200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conselh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sistência nos seu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sca contínua de aprend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 hum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tica profi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AB2-4D1D-4A9F-8EE6-2463A3337B3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4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4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52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tângulo 1"/>
          <p:cNvSpPr/>
          <p:nvPr/>
        </p:nvSpPr>
        <p:spPr>
          <a:xfrm>
            <a:off x="179280" y="2637000"/>
            <a:ext cx="66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"Qual o principal desafio do engenheiro civil?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tângulo 2"/>
          <p:cNvSpPr/>
          <p:nvPr/>
        </p:nvSpPr>
        <p:spPr>
          <a:xfrm>
            <a:off x="2664000" y="3511440"/>
            <a:ext cx="45720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cipais desaf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frentar os me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izar a profi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48C1-08C6-42F4-860F-EF676D17441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57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58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ângulo 2"/>
          <p:cNvSpPr/>
          <p:nvPr/>
        </p:nvSpPr>
        <p:spPr>
          <a:xfrm>
            <a:off x="179280" y="2965320"/>
            <a:ext cx="8715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iscutir como minimizar as dificuldades do recém-formado com base nas experiências dos profissionais atu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BE1-3946-476B-9449-89C3894E29F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67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tângulo 4"/>
          <p:cNvSpPr/>
          <p:nvPr/>
        </p:nvSpPr>
        <p:spPr>
          <a:xfrm>
            <a:off x="179280" y="1023840"/>
            <a:ext cx="87868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os dados/Estudo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tângulo 1"/>
          <p:cNvSpPr/>
          <p:nvPr/>
        </p:nvSpPr>
        <p:spPr>
          <a:xfrm>
            <a:off x="179280" y="238932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orma de minimizar as dificuldades dos recém-formados seria a persistência nos objetivos, pois as conquistas almejadas nem sempre virão nas primeiras tentativas, à busca contínua de aprendizagem, não ficar somente nas teorias aprendidas em sala de aula é importante ter sempre o interesse em querer aprender mais, seja pela realização de cursos ou leituras constantes. Ser humilde pra saber reconhecer os erros quando necessários e compreender que sempre é necessário aprender mais e que nunca se sabe de tudo e ética profissional para não se corromper e nem aceitar subo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ço Reservado para Número de Slid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6CF4-D0C0-4213-8D47-21BDC9C554C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75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76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tângulo 4"/>
          <p:cNvSpPr/>
          <p:nvPr/>
        </p:nvSpPr>
        <p:spPr>
          <a:xfrm>
            <a:off x="179280" y="1023840"/>
            <a:ext cx="87868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C645-7101-49FD-A17A-CF34F215F3B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83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84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tângulo 4"/>
          <p:cNvSpPr/>
          <p:nvPr/>
        </p:nvSpPr>
        <p:spPr>
          <a:xfrm>
            <a:off x="179280" y="1023840"/>
            <a:ext cx="878688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 modo geral, as dificuldades e desafios que os engenheiros atuantes relataram terem passado, são as mesmas previstas a serem passadas pelos recém-formados, uma vez que mostra a preocupação em atuar, tendo como base, profissionais já experientes, trazendo frustrações ao se comparar aos mesmo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42E0-E7DD-416C-81A9-CBEB2E0F973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91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292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tângulo 4"/>
          <p:cNvSpPr/>
          <p:nvPr/>
        </p:nvSpPr>
        <p:spPr>
          <a:xfrm>
            <a:off x="179280" y="1023840"/>
            <a:ext cx="87868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Uma maneira de minimizar este impacto é sempre buscar o conhecimento através de leituras, cursos e até mesmos com outros profissiona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E6A9-87CE-4BDF-BBF6-E2ED93A5E03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4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65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1547640" y="2565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ângulo 4"/>
          <p:cNvSpPr/>
          <p:nvPr/>
        </p:nvSpPr>
        <p:spPr>
          <a:xfrm>
            <a:off x="179280" y="1023840"/>
            <a:ext cx="8786880" cy="48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Justificativa do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 que impulsionou a realização deste trabalho foi levantar as dificuldades encontradas pelos engenheiros civis recém-formados, apresentando propostas do que o engenheiro civil precisa saber ao se deparar com o mercado, com base nas experiências de profissionais atu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6527-D7B0-4E01-940E-AFBAE566305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29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0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tângulo 4"/>
          <p:cNvSpPr/>
          <p:nvPr/>
        </p:nvSpPr>
        <p:spPr>
          <a:xfrm>
            <a:off x="179280" y="1023840"/>
            <a:ext cx="8786880" cy="44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omend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ada à importância do tema, torna-se necessário a realização do desenvolvimento de projetos voltados para a integração entre profissionais atuantes e aos ingressantes no mercado de trabalho, que atendam a esses anseios vivenciados pelos recém-formad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1A7C-4A42-4C11-AA7C-261AC5CFF37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07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08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tângulo 4"/>
          <p:cNvSpPr/>
          <p:nvPr/>
        </p:nvSpPr>
        <p:spPr>
          <a:xfrm>
            <a:off x="179280" y="1023840"/>
            <a:ext cx="8786880" cy="59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omend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Neste sentido, esses projetos mostrariam a realidade vivenciada pela profissão e de certa forma minimizaria as preocupações que todo profissional passará ao finalizar a graduação, motivando o recém-formado a ter mais expectativa e confiança para exercer suas atividad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623A-621B-418D-BD13-CAC9475F1CA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15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16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tângulo 4"/>
          <p:cNvSpPr/>
          <p:nvPr/>
        </p:nvSpPr>
        <p:spPr>
          <a:xfrm>
            <a:off x="179280" y="1023840"/>
            <a:ext cx="87868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387A-817B-4D1E-8E73-F27F8642DB9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24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tângulo 4"/>
          <p:cNvSpPr/>
          <p:nvPr/>
        </p:nvSpPr>
        <p:spPr>
          <a:xfrm>
            <a:off x="179280" y="1023840"/>
            <a:ext cx="87868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BARROS, A. J., &amp; LEHFELD, N. D. (2007).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Fundamentos da Metodologia Científic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(3ª ed.). São Paulo: Pearson Prentice Ha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BAZZO, W. A.; PEREIRA, L. T. D. V.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Introdução á Engenharia: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Conceiros, Ferramentas e Comportamentos. FLORIANÓPOLIS: UFSC, 20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0B1E-CDCF-4A5A-998F-85F542ED745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32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tângulo 4"/>
          <p:cNvSpPr/>
          <p:nvPr/>
        </p:nvSpPr>
        <p:spPr>
          <a:xfrm>
            <a:off x="179280" y="1023840"/>
            <a:ext cx="8786880" cy="49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BRASIL. Lei nº 5.194, de 24 de dezembro de 1966. Regula o exercício das profissões de Engenheiro, Arquiteto e Engenheiro Agrônomo, e dá outras providências. Disponível em: </a:t>
            </a:r>
            <a:r>
              <a:rPr b="0" lang="pt-BR" sz="25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planalto.gov.br/ccivil_03/Leis/L5194.htm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Acesso em: 06 jun.2015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RVO, A., BERVIAN, P. A., &amp; SILVA, R. (2006).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Metodologia Científic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(6ª ed.). São Paulo: Pearson Prentice Ha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63EF-BC8D-45F3-A516-A81BD852B16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39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40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tângulo 4"/>
          <p:cNvSpPr/>
          <p:nvPr/>
        </p:nvSpPr>
        <p:spPr>
          <a:xfrm>
            <a:off x="179280" y="1023840"/>
            <a:ext cx="87868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OLABELA, F.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 Segredo de Luís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Rio de Janeiro: Sextante, 20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SURVEYMONKEY. Tamanho da amostra do questionário. Disponível em: </a:t>
            </a:r>
            <a:r>
              <a:rPr b="0" lang="pt-BR" sz="25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s://pt.surveymonkey.com/mp/sample-size/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Acesso em 08 nov.201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6B1A-C1BE-4ED0-9C71-D3172E0BEB2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47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348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351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272A-C927-477C-B0C8-8BD620CF2DD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tângulo 9"/>
          <p:cNvSpPr/>
          <p:nvPr/>
        </p:nvSpPr>
        <p:spPr>
          <a:xfrm>
            <a:off x="900000" y="191628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os vossos esforços desafiem as impossibilidades, lembrai-vos de que as grandes coisas do homem foram conquistadas do que parecia impossíve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rles Chap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72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73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ângulo 4"/>
          <p:cNvSpPr/>
          <p:nvPr/>
        </p:nvSpPr>
        <p:spPr>
          <a:xfrm>
            <a:off x="179280" y="1023840"/>
            <a:ext cx="878688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limitação do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ara um estudo mais preciso, o foco da pesquisa será delimitado aos desafios que o engenheiro civil recém-formado encontrará com as exigências no mercado de trabalho do Município de São Mateus, com base nos formandos em Engenharia Civil da Faculdade Norte Capixaba de São Mateu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D189-6CB3-47BA-97F0-01E6EA4FEC1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80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81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ângulo 4"/>
          <p:cNvSpPr/>
          <p:nvPr/>
        </p:nvSpPr>
        <p:spPr>
          <a:xfrm>
            <a:off x="179280" y="1023840"/>
            <a:ext cx="878688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ormulaç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Buscou-se reunir informações com a finalidade de responder ao seguinte problema da pesquisa: Quais os desafios dos Engenheiros Civis recém-form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23B7-2F4B-414C-B136-58D1695FDFF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88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89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ângulo 4"/>
          <p:cNvSpPr/>
          <p:nvPr/>
        </p:nvSpPr>
        <p:spPr>
          <a:xfrm>
            <a:off x="179280" y="1023840"/>
            <a:ext cx="878688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ompreender as dificuldades dos alunos recém-formados em Engenharia Civil da Faculdade Norte Capixaba de São Mate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93C0-E9AA-426A-8A65-71F90C90C35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97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ângulo 4"/>
          <p:cNvSpPr/>
          <p:nvPr/>
        </p:nvSpPr>
        <p:spPr>
          <a:xfrm>
            <a:off x="179280" y="1023840"/>
            <a:ext cx="8786880" cy="63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Identificar as dificuldades dos alunos recém-formados em Engenharia Civil no mercado de trabalho de São Mate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screver as experiências de engenheiros civis atuantes na área civi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iscutir como minimizar as dificuldades do recém-formado com base nas experiências dos profissionais atu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709F-5C98-478D-BF33-26D7EE9F71E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04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05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ângulo 4"/>
          <p:cNvSpPr/>
          <p:nvPr/>
        </p:nvSpPr>
        <p:spPr>
          <a:xfrm>
            <a:off x="179280" y="1023840"/>
            <a:ext cx="878688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ara o desenvolvimento deste trabalho foram utilizadas pesquisas bibliográficas e estudo de caso. A pesquisa bibliográfica baseou-se em livros na área de Engenharia, Empreendedorismo e Gestão. O estudo de caso foi desenvolvido através de questionários, envolvendo recém-formados e engenheiros civis atu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F016-7766-4AEC-BF2A-8E986B99BF9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topo_saoMateus"/>
          <p:cNvPicPr/>
          <p:nvPr/>
        </p:nvPicPr>
        <p:blipFill>
          <a:blip r:embed="rId1"/>
          <a:stretch/>
        </p:blipFill>
        <p:spPr>
          <a:xfrm>
            <a:off x="179280" y="236520"/>
            <a:ext cx="8715600" cy="1104840"/>
          </a:xfrm>
          <a:prstGeom prst="rect">
            <a:avLst/>
          </a:prstGeom>
          <a:ln w="0">
            <a:noFill/>
          </a:ln>
        </p:spPr>
      </p:pic>
      <p:grpSp>
        <p:nvGrpSpPr>
          <p:cNvPr id="112" name="Grupo 3"/>
          <p:cNvGrpSpPr/>
          <p:nvPr/>
        </p:nvGrpSpPr>
        <p:grpSpPr>
          <a:xfrm>
            <a:off x="31680" y="6093000"/>
            <a:ext cx="9144000" cy="792000"/>
            <a:chOff x="31680" y="6093000"/>
            <a:chExt cx="9144000" cy="792000"/>
          </a:xfrm>
        </p:grpSpPr>
        <p:sp>
          <p:nvSpPr>
            <p:cNvPr id="113" name="Retângulo com Único Canto Aparado e Arredondado 4"/>
            <p:cNvSpPr/>
            <p:nvPr/>
          </p:nvSpPr>
          <p:spPr>
            <a:xfrm>
              <a:off x="31680" y="6093000"/>
              <a:ext cx="9144000" cy="768240"/>
            </a:xfrm>
            <a:custGeom>
              <a:avLst/>
              <a:gdLst/>
              <a:ahLst/>
              <a:rect l="l" t="t" r="r" b="b"/>
              <a:pathLst>
                <a:path w="9144000" h="907964">
                  <a:moveTo>
                    <a:pt x="151330" y="0"/>
                  </a:moveTo>
                  <a:lnTo>
                    <a:pt x="8992670" y="0"/>
                  </a:lnTo>
                  <a:lnTo>
                    <a:pt x="9144000" y="151330"/>
                  </a:lnTo>
                  <a:lnTo>
                    <a:pt x="914400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tângulo com Único Canto Aparado e Arredondado 5"/>
            <p:cNvSpPr/>
            <p:nvPr/>
          </p:nvSpPr>
          <p:spPr>
            <a:xfrm flipH="1">
              <a:off x="6654960" y="6116760"/>
              <a:ext cx="2520720" cy="768240"/>
            </a:xfrm>
            <a:custGeom>
              <a:avLst/>
              <a:gdLst/>
              <a:ahLst/>
              <a:rect l="l" t="t" r="r" b="b"/>
              <a:pathLst>
                <a:path w="2520950" h="907964">
                  <a:moveTo>
                    <a:pt x="151330" y="0"/>
                  </a:moveTo>
                  <a:lnTo>
                    <a:pt x="2369620" y="0"/>
                  </a:lnTo>
                  <a:lnTo>
                    <a:pt x="2520950" y="151330"/>
                  </a:lnTo>
                  <a:lnTo>
                    <a:pt x="2520950" y="907964"/>
                  </a:lnTo>
                  <a:lnTo>
                    <a:pt x="0" y="907964"/>
                  </a:lnTo>
                  <a:lnTo>
                    <a:pt x="0" y="151330"/>
                  </a:lnTo>
                  <a:cubicBezTo>
                    <a:pt x="0" y="67753"/>
                    <a:pt x="67753" y="0"/>
                    <a:pt x="151330" y="0"/>
                  </a:cubicBez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Imagem 12" descr=""/>
          <p:cNvPicPr/>
          <p:nvPr/>
        </p:nvPicPr>
        <p:blipFill>
          <a:blip r:embed="rId2"/>
          <a:stretch/>
        </p:blipFill>
        <p:spPr>
          <a:xfrm>
            <a:off x="6469200" y="6458040"/>
            <a:ext cx="2493720" cy="426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1657440" y="25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ângulo 4"/>
          <p:cNvSpPr/>
          <p:nvPr/>
        </p:nvSpPr>
        <p:spPr>
          <a:xfrm>
            <a:off x="179280" y="1023840"/>
            <a:ext cx="878688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OS DESAFIOS DOS ENGENHEIROS CIVIS RECÉM-FORMADOS: ESTUDO DE CASO DA FACULDADE NORTE CAPIXABA DE SÃO MAT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ferencial Te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resentação e Análise de Dados/Estudo de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clusão e Recomend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ferências Bibliográf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ço Reservado para Número de Slid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2F06-504A-4CFE-A441-3274040F359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6:41:27Z</dcterms:created>
  <dc:creator>André Ferreira da Silva</dc:creator>
  <dc:description/>
  <dc:language>en-US</dc:language>
  <cp:lastModifiedBy>JLUIS</cp:lastModifiedBy>
  <dcterms:modified xsi:type="dcterms:W3CDTF">2019-01-09T17:38:26Z</dcterms:modified>
  <cp:revision>428</cp:revision>
  <dc:subject/>
  <dc:title>Slide 1</dc:title>
</cp:coreProperties>
</file>