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B40-94AF-4B56-A94B-3140B080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901-0DAA-45AF-A381-16AB37C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614-BC08-47C6-973E-BA5FF78D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540-A6D3-4E4C-ABB9-669E61DD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A52-C18D-4614-B1E8-1D7247A7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02A-B966-4107-AE1B-7844B579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88B-36D8-4F5D-B8AE-25F2D08D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381-DC71-4132-B09E-CD58003B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4D7-D12B-4727-8D40-E9D56003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5F7-C8AB-462B-B538-2A8E3B60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1C5-CD59-4DBA-B4C6-6DECB56F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056-D8C8-4B52-88B2-38A53D7B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17375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1380-E45D-4F1A-8A31-75A041E7FB35}" type="datetime">
              <a:rPr b="0" lang="pt-BR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C1FA-F315-4192-8364-5B6B9192CDCD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C52C-DBD8-402F-9AAB-0EFFE3238CE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8"/>
          <p:cNvSpPr/>
          <p:nvPr/>
        </p:nvSpPr>
        <p:spPr>
          <a:xfrm>
            <a:off x="611280" y="1484280"/>
            <a:ext cx="78483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APLICAÇÃO DAS ESTRATÉGI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</a:rPr>
              <a:t>DE MARKETING NO PROCESSO DE MUDANÇA DE MARCA: UM ESTUDO DE CASO NA EFETIVA SERVIÇOS NO MUNICÍPIO DE SÃO MATEU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067280" y="4797360"/>
            <a:ext cx="46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OUGLAS CARREIRO DA 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TH DA SILVA PAS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RAIA CASTRO VI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79280" y="5877000"/>
            <a:ext cx="511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ientador: Nilvans Fernandes Bo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146F-BD7E-41F7-9C81-F1A03B97C9E4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971640" y="1844640"/>
            <a:ext cx="763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3 – CARACTERIZAÇÃO DO ESTUDO DE CA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ixaDeTexto 7"/>
          <p:cNvSpPr/>
          <p:nvPr/>
        </p:nvSpPr>
        <p:spPr>
          <a:xfrm>
            <a:off x="1187280" y="2774880"/>
            <a:ext cx="691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dentificação da organiz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m 7" descr="C:\Users\Douglas\Desktop\PROJETO FACULDADE\Logo Marca Efetiva original 1.png"/>
          <p:cNvPicPr/>
          <p:nvPr/>
        </p:nvPicPr>
        <p:blipFill>
          <a:blip r:embed="rId3"/>
          <a:stretch/>
        </p:blipFill>
        <p:spPr>
          <a:xfrm>
            <a:off x="4643280" y="3436920"/>
            <a:ext cx="388944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Imagem 8" descr="C:\Users\Douglas\Desktop\PROJETO FACULDADE\logo evidencia serviços.jpg"/>
          <p:cNvPicPr/>
          <p:nvPr/>
        </p:nvPicPr>
        <p:blipFill>
          <a:blip r:embed="rId4"/>
          <a:stretch/>
        </p:blipFill>
        <p:spPr>
          <a:xfrm>
            <a:off x="611280" y="3429000"/>
            <a:ext cx="388764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CaixaDeTexto 7"/>
          <p:cNvSpPr/>
          <p:nvPr/>
        </p:nvSpPr>
        <p:spPr>
          <a:xfrm>
            <a:off x="611280" y="5732640"/>
            <a:ext cx="3889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05: Logomarca da empresa Evidência Serviç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Fornecida pela Empres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7"/>
          <p:cNvSpPr/>
          <p:nvPr/>
        </p:nvSpPr>
        <p:spPr>
          <a:xfrm>
            <a:off x="4643280" y="5732640"/>
            <a:ext cx="3889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igura 07: Logomarca da empresa Efetiva Serviç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Fornecida pela Empres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2B65-2349-4A58-BB09-53F87884003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971640" y="170028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ixaDeTexto 7"/>
          <p:cNvSpPr/>
          <p:nvPr/>
        </p:nvSpPr>
        <p:spPr>
          <a:xfrm>
            <a:off x="1116000" y="2565360"/>
            <a:ext cx="6985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niverso: 324 clientes desde o 1º Semestre de 2013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ostra: 30 clientes / 9,25% do univers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íodo da Pesquisa: 28 de Maio a 26 de Junho de 201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B5E1-A1A9-4CAD-A4D3-F0DE768AAC63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7"/>
          <p:cNvSpPr/>
          <p:nvPr/>
        </p:nvSpPr>
        <p:spPr>
          <a:xfrm>
            <a:off x="1116000" y="4581360"/>
            <a:ext cx="6985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4: VISÃO DO ENTREVISTADO PELA IDENTIFICAÇÃO DA EMPRESA COMO EFETIVA NO MOMENTO DA PESQUI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áfico 7" descr=""/>
          <p:cNvPicPr/>
          <p:nvPr/>
        </p:nvPicPr>
        <p:blipFill>
          <a:blip r:embed="rId3"/>
          <a:stretch/>
        </p:blipFill>
        <p:spPr>
          <a:xfrm>
            <a:off x="1182600" y="2273400"/>
            <a:ext cx="663912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BC09-4620-48F0-98DF-99A3E1DA11D1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ixaDeTexto 7"/>
          <p:cNvSpPr/>
          <p:nvPr/>
        </p:nvSpPr>
        <p:spPr>
          <a:xfrm>
            <a:off x="1116000" y="4581360"/>
            <a:ext cx="698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7: AVALIA QUAL RAZÃO FOI INICIALMENTE APRESENTADA AO CLIENTE AO SABER DA EXISTÊNCIA DA EMPRE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Gráfico 8" descr=""/>
          <p:cNvPicPr/>
          <p:nvPr/>
        </p:nvPicPr>
        <p:blipFill>
          <a:blip r:embed="rId3"/>
          <a:stretch/>
        </p:blipFill>
        <p:spPr>
          <a:xfrm>
            <a:off x="1182600" y="2200320"/>
            <a:ext cx="66326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137C-C91A-4AAC-ACA4-5471D24E304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ixaDeTexto 7"/>
          <p:cNvSpPr/>
          <p:nvPr/>
        </p:nvSpPr>
        <p:spPr>
          <a:xfrm>
            <a:off x="1116000" y="4581360"/>
            <a:ext cx="698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5: COMO O CLIENTE SOUBE DA EXISTÊNCIA DA EFETIVA SERVIÇ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áfico 9" descr=""/>
          <p:cNvPicPr/>
          <p:nvPr/>
        </p:nvPicPr>
        <p:blipFill>
          <a:blip r:embed="rId3"/>
          <a:stretch/>
        </p:blipFill>
        <p:spPr>
          <a:xfrm>
            <a:off x="1182600" y="2273400"/>
            <a:ext cx="6632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4AA8-F4F6-4977-A868-9256ECF1EB36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7"/>
          <p:cNvSpPr/>
          <p:nvPr/>
        </p:nvSpPr>
        <p:spPr>
          <a:xfrm>
            <a:off x="1116000" y="4581360"/>
            <a:ext cx="698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12: AVALIA A EMPRESA EFETIVA SERVIÇOS QUANTO AO ATENDI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áfico 8" descr=""/>
          <p:cNvPicPr/>
          <p:nvPr/>
        </p:nvPicPr>
        <p:blipFill>
          <a:blip r:embed="rId3"/>
          <a:stretch/>
        </p:blipFill>
        <p:spPr>
          <a:xfrm>
            <a:off x="1182600" y="2273400"/>
            <a:ext cx="6632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4596-FB9F-4D64-B9E9-19D4DB7A2852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971640" y="141300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APÍTULO 4 - PESQUISA DE CA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ixaDeTexto 7"/>
          <p:cNvSpPr/>
          <p:nvPr/>
        </p:nvSpPr>
        <p:spPr>
          <a:xfrm>
            <a:off x="1116000" y="4581360"/>
            <a:ext cx="698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GRÁFICO 9: AVALIA SE OS CLIENTES RECOMENDARIAM A EFETIVA PARA OUTRAS PESSO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áfico 9" descr=""/>
          <p:cNvPicPr/>
          <p:nvPr/>
        </p:nvPicPr>
        <p:blipFill>
          <a:blip r:embed="rId3"/>
          <a:stretch/>
        </p:blipFill>
        <p:spPr>
          <a:xfrm>
            <a:off x="1182600" y="2273400"/>
            <a:ext cx="6632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439D-7FD1-4F7A-BCA3-7FA65BC3F284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971640" y="1700280"/>
            <a:ext cx="76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ixaDeTexto 7"/>
          <p:cNvSpPr/>
          <p:nvPr/>
        </p:nvSpPr>
        <p:spPr>
          <a:xfrm>
            <a:off x="1116000" y="2565360"/>
            <a:ext cx="6985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ipótes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milaridades nas ações tomadas pela empres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quadramento das Estratégias à realidade da organiz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0471-D53A-40B2-8AAD-956FFA999A7A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7"/>
          <p:cNvSpPr/>
          <p:nvPr/>
        </p:nvSpPr>
        <p:spPr>
          <a:xfrm>
            <a:off x="1116000" y="2349360"/>
            <a:ext cx="69850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rcas não são apenas aquilo que a empresa vende, pelo contrário, elas representam o que a empresa faz e, mais significativamente, o que a empresa realmente é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otler e Pfoer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D255-9E0B-44BA-B47B-52BA38D0752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8"/>
          <p:cNvSpPr/>
          <p:nvPr/>
        </p:nvSpPr>
        <p:spPr>
          <a:xfrm>
            <a:off x="900000" y="2341440"/>
            <a:ext cx="727236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-se como fonte propulsora para realização desta pesquisa identificar as definições e ferramentas necessárias às decisões de manutenção e/ou alteração da marca da organização Efetiva Serviços, baseando-se em princípios do Marketing Moderno voltados às estratégias ligadas diretamente a Gestão de Bran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900000" y="1557360"/>
            <a:ext cx="74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JUSTIFICATIVA  DA PESQUI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2174-8768-4541-9C4D-A6DAEF335EBD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58" name="CaixaDeTexto 9"/>
          <p:cNvSpPr/>
          <p:nvPr/>
        </p:nvSpPr>
        <p:spPr>
          <a:xfrm>
            <a:off x="1187280" y="1700280"/>
            <a:ext cx="727236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licação das ferramentas do marketing no processo de mudança de marca e gestão, com o objetivo de minimizar os impactos resultantes desse processo. Estudo de caso na Efetiva Serviç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C68F-3C62-4B06-B51C-2A837B16A8C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63" name="CaixaDeTexto 9"/>
          <p:cNvSpPr/>
          <p:nvPr/>
        </p:nvSpPr>
        <p:spPr>
          <a:xfrm>
            <a:off x="1116000" y="2492280"/>
            <a:ext cx="727236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omo as estratégias de marketing podem influenciar a mudança de marca da empresa Efetiva Serviços, diminuindo possíveis impactos negativos resultantes dessa alteraçã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059280" y="1795320"/>
            <a:ext cx="29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F9D7-7292-445E-BCD1-E7BB868958B9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9"/>
          <p:cNvSpPr/>
          <p:nvPr/>
        </p:nvSpPr>
        <p:spPr>
          <a:xfrm>
            <a:off x="755640" y="2479680"/>
            <a:ext cx="727236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valiar como as ferramentas do marketing podem influenciar diretamente numa aplicação de alteração de marca e determinar o posicionamento mercadológico da empresa após esta mudanç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411280" y="1584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9FC-273D-446C-AD92-AB8B8B35B935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9"/>
          <p:cNvSpPr/>
          <p:nvPr/>
        </p:nvSpPr>
        <p:spPr>
          <a:xfrm>
            <a:off x="395280" y="1844640"/>
            <a:ext cx="83534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o sistema de marketing atual da empresa Efetiva Serviç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r como a estratégia atual influenciou e está influenciando na imagem da empre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uturar informações que possam ser base para identificar o posicionamento da marca no merc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valiar as informações obtidas a fim de utilizá-las para a composição de um parecer sobre os impactos das estratégias utiliz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car as ferramentas do marketing que melhor se enquadram a realidade da organiz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idar a aplicabilidade das ferramentas diante da percepção ex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24000" y="134136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F37A-DE84-4DA1-95C9-1BA4B437392A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2268360" y="1484280"/>
            <a:ext cx="49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TODOLOGIA E FUDAMENTAÇÃO TEÓ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ixaDeTexto 7"/>
          <p:cNvSpPr/>
          <p:nvPr/>
        </p:nvSpPr>
        <p:spPr>
          <a:xfrm>
            <a:off x="1187280" y="2492280"/>
            <a:ext cx="69138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eitura de bibliografias acadêmicas e livros de marketing, direcionando a pesquisa para as áreas de marketing e marcas e ainda estudo de caso na Efetiva Serviços. Sendo utilizado como bibliografia base para a pesquisa, o livro de Kotler e tendo como apoio, autores como Keller, Cobra, Machado, Honora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B6AA-3870-4098-8EB2-7C0044E25A3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684360" y="1844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PÍTULO 1 – CONHECENDO O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ixaDeTexto 7"/>
          <p:cNvSpPr/>
          <p:nvPr/>
        </p:nvSpPr>
        <p:spPr>
          <a:xfrm>
            <a:off x="1187280" y="2774880"/>
            <a:ext cx="6913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ortâncias do Marketin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ceitos, tendências e tarefas fundamentai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ejamentos de Mark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de cantos arredondados 4"/>
          <p:cNvSpPr/>
          <p:nvPr/>
        </p:nvSpPr>
        <p:spPr>
          <a:xfrm>
            <a:off x="324000" y="404640"/>
            <a:ext cx="8496000" cy="6048720"/>
          </a:xfrm>
          <a:prstGeom prst="roundRect">
            <a:avLst>
              <a:gd name="adj" fmla="val 2991"/>
            </a:avLst>
          </a:prstGeom>
          <a:solidFill>
            <a:srgbClr val="ffffff"/>
          </a:solidFill>
          <a:ln w="25560">
            <a:solidFill>
              <a:srgbClr val="0048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7AF2-0172-4D38-95E1-A0281A5C933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ivc.br/wp/wp-content/uploads/2013/04/Pesquisa-novos-cursos-site.jpg"/>
          <p:cNvPicPr/>
          <p:nvPr/>
        </p:nvPicPr>
        <p:blipFill>
          <a:blip r:embed="rId1"/>
          <a:srcRect l="71191" t="79089" r="3301" b="0"/>
          <a:stretch/>
        </p:blipFill>
        <p:spPr>
          <a:xfrm>
            <a:off x="378000" y="476280"/>
            <a:ext cx="2825640" cy="79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LOGOMARCA CRA-ES"/>
          <p:cNvPicPr/>
          <p:nvPr/>
        </p:nvPicPr>
        <p:blipFill>
          <a:blip r:embed="rId2"/>
          <a:stretch/>
        </p:blipFill>
        <p:spPr>
          <a:xfrm>
            <a:off x="6804000" y="476280"/>
            <a:ext cx="194472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971640" y="1844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APÍTULO 2 – MARCA: ORIGEM E CONCE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7"/>
          <p:cNvSpPr/>
          <p:nvPr/>
        </p:nvSpPr>
        <p:spPr>
          <a:xfrm>
            <a:off x="1187280" y="2774880"/>
            <a:ext cx="69138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rand Equity: Valor da Mar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rmação de Fidelidade à Mar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ratégias de Mar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05:55Z</dcterms:created>
  <dc:creator>Athos M.</dc:creator>
  <dc:description/>
  <dc:language>en-US</dc:language>
  <cp:lastModifiedBy>JLUIS</cp:lastModifiedBy>
  <dcterms:modified xsi:type="dcterms:W3CDTF">2019-01-09T17:37:54Z</dcterms:modified>
  <cp:revision>262</cp:revision>
  <dc:subject/>
  <dc:title>Slide 1</dc:title>
</cp:coreProperties>
</file>