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955-638D-4319-A936-4B2E4B5F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478-67DD-40CC-A3D0-D10DC32A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EE5-CB6E-4FAC-8807-3F43216A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047-E40E-4490-BDDF-BAE3C629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927-7DA0-4465-A993-F9B50584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F73-4EC6-4211-B152-AE1CFF5C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44B-E0C8-4B45-812A-C4001A26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B7E-C9B8-4043-9963-A60FA057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9B1-36E4-48B3-9BAE-C68831C3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A1A-E0F4-4023-8C94-38C55582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546-EB0D-4DF3-87E6-52B4FE8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CA7-C18E-42F6-A298-0D89E86E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1099-0C83-4E03-AA85-A62816DE61D4}" type="datetime">
              <a:rPr b="0" lang="pt-BR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EE1-BA9B-4D20-89DA-A054F4757B7A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9BB-5512-4699-B9E7-D59B94254B9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44" name="CaixaDeTexto 8"/>
          <p:cNvSpPr/>
          <p:nvPr/>
        </p:nvSpPr>
        <p:spPr>
          <a:xfrm>
            <a:off x="611280" y="148428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DA – CENTRAL DE AVISOS: SOFTWARE PARA APLICAÇÃO DA TECNOLOGIA NA PUBLICIDADE UM ESTUDO DE CASO NA FACULDADE VALE DO CRICA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4067280" y="479736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RENDA LACERDA RO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HÁBATA DOS SANTOS A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79280" y="5877000"/>
            <a:ext cx="511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ientador: Douglas de Oliveira Ty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8" descr=""/>
          <p:cNvPicPr/>
          <p:nvPr/>
        </p:nvPicPr>
        <p:blipFill>
          <a:blip r:embed="rId2"/>
          <a:stretch/>
        </p:blipFill>
        <p:spPr>
          <a:xfrm>
            <a:off x="6545160" y="444600"/>
            <a:ext cx="214956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EB04-316A-4E7A-A312-CA08FF6752C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"/>
          <p:cNvSpPr/>
          <p:nvPr/>
        </p:nvSpPr>
        <p:spPr>
          <a:xfrm>
            <a:off x="2197080" y="1484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ixaDeTexto 7"/>
          <p:cNvSpPr/>
          <p:nvPr/>
        </p:nvSpPr>
        <p:spPr>
          <a:xfrm>
            <a:off x="1187280" y="2492280"/>
            <a:ext cx="69138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tou-se a necessidade de pesquisar em materiais já existentes: livros e artigos científicos e fazer levantamento de dados através de questionário como base para análise do uso da tecnologia a serviço da publicidade e a partir destes dados entender se há viabilidade para tal apl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9A9C-3AFE-49EF-931B-C074820D97C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971640" y="170028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7"/>
          <p:cNvSpPr/>
          <p:nvPr/>
        </p:nvSpPr>
        <p:spPr>
          <a:xfrm>
            <a:off x="1116000" y="2565360"/>
            <a:ext cx="6985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ocal da pesquisa: Faculdade Vale do Cricaré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ostra: 68 alun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íodo da Pesquisa: 17 a 22 de Junho de 20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AE0B-03BB-4E14-A40E-923D354EFBF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971640" y="1413000"/>
            <a:ext cx="763272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ICAR A APROVAÇÃO DO PÚBLICO ALVO EM RELAÇÃO AO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o analisar os dados obtidos através da pesquisa claramente o software obteve uma aprovação em relação ao público alvo com índice de 86,8%. O software foi desenvolvido pensando no conforto do usuário, na agilidade para o acesso da informação e aprimoramento da comunicação acadê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a pergunta foi elaborada para analisar a aceitação por parte dos alunos, público alvo, na criação do site CD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5. Você acessaria este site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7"/>
          <p:cNvSpPr/>
          <p:nvPr/>
        </p:nvSpPr>
        <p:spPr>
          <a:xfrm>
            <a:off x="1236600" y="5878440"/>
            <a:ext cx="6985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5: Análise de aceitação da criação do site CD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m 1" descr=""/>
          <p:cNvPicPr/>
          <p:nvPr/>
        </p:nvPicPr>
        <p:blipFill>
          <a:blip r:embed="rId2"/>
          <a:stretch/>
        </p:blipFill>
        <p:spPr>
          <a:xfrm>
            <a:off x="1236600" y="3646440"/>
            <a:ext cx="3933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066B-42EA-462F-8A8F-E857440C19AA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900000" y="1268280"/>
            <a:ext cx="76327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ICAR A PREFERÊNCIA DOS ALUNOS PELOS MÉTODOS APRESEN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 74,6% dos votos, ainda que atualmente o maior meio de obtenção das informações seja o mural de avisos, no caso da implementação do site a preferência dos alunos segundo a pesquisa realizada seria justamente o conteúdo online, você pode se perguntar pelo site da instituição, mas este software é distinto e tem um objetivo mais específico no âmbito informativo e comunic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7. Se houvesse oportunidade de escolher entre avisos em impressos no mural e avisos online, por qual você optaria?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ixaDeTexto 7"/>
          <p:cNvSpPr/>
          <p:nvPr/>
        </p:nvSpPr>
        <p:spPr>
          <a:xfrm>
            <a:off x="1079640" y="6056280"/>
            <a:ext cx="698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7 - Análise de preferência dos alunos quanto ao meio nos quais os avisos serão disponibilizad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agem 1" descr=""/>
          <p:cNvPicPr/>
          <p:nvPr/>
        </p:nvPicPr>
        <p:blipFill>
          <a:blip r:embed="rId2"/>
          <a:stretch/>
        </p:blipFill>
        <p:spPr>
          <a:xfrm>
            <a:off x="1258920" y="3976560"/>
            <a:ext cx="429876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7698-7A8A-40B1-8564-B7FDC25D4F6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971640" y="1279440"/>
            <a:ext cx="763272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RIFICAR SE O MÉTODO AUXILIARÁ DE FATO O ALUNO NA OBTENÇÃO DE INFORMAÇÕES A RESPEITO DO SEU CURSO E DA INSTITUIÇÃ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89,6% dos entrevistados diz que a data de expiração para avisos antigos facilitará na obtenção de informações, pois com tal recurso avisos atuais não irão se misturar com os mais velhos causando acúmulos de inform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9. Um site que possui data de expiração para avisos antigos facilitaria na sua obtenção de informação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ixaDeTexto 7"/>
          <p:cNvSpPr/>
          <p:nvPr/>
        </p:nvSpPr>
        <p:spPr>
          <a:xfrm>
            <a:off x="955800" y="5862600"/>
            <a:ext cx="6984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9: Análise da aprovação da funcionalidade apresentada no site a respeito da expiração de avis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ntigo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m 1" descr=""/>
          <p:cNvPicPr/>
          <p:nvPr/>
        </p:nvPicPr>
        <p:blipFill>
          <a:blip r:embed="rId2"/>
          <a:stretch/>
        </p:blipFill>
        <p:spPr>
          <a:xfrm>
            <a:off x="971640" y="3489480"/>
            <a:ext cx="42130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395A-C6FF-4FF6-B02E-42CB4F46C46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IAGRAMA DE ESTUDO DE CA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ixaDeTexto 7"/>
          <p:cNvSpPr/>
          <p:nvPr/>
        </p:nvSpPr>
        <p:spPr>
          <a:xfrm>
            <a:off x="1295280" y="5489640"/>
            <a:ext cx="698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1: Diagrama de Caso de U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m 1" descr=""/>
          <p:cNvPicPr/>
          <p:nvPr/>
        </p:nvPicPr>
        <p:blipFill>
          <a:blip r:embed="rId2"/>
          <a:stretch/>
        </p:blipFill>
        <p:spPr>
          <a:xfrm>
            <a:off x="1857240" y="2208240"/>
            <a:ext cx="5761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267-5A4F-4AFF-A68A-51CD02A5052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971640" y="141300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IAGRAMA DE ENTIDADES DE RELACIONAM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ixaDeTexto 7"/>
          <p:cNvSpPr/>
          <p:nvPr/>
        </p:nvSpPr>
        <p:spPr>
          <a:xfrm>
            <a:off x="1476360" y="5916600"/>
            <a:ext cx="698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2: Diagrama de Entidades de Relacionamen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2411280" y="2479680"/>
            <a:ext cx="45100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7014-D35B-47EF-80A2-BE1A08886AF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IAGRAMA DE FLUXO DE DA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ixaDeTexto 7"/>
          <p:cNvSpPr/>
          <p:nvPr/>
        </p:nvSpPr>
        <p:spPr>
          <a:xfrm>
            <a:off x="1157400" y="5340240"/>
            <a:ext cx="698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3: Diagrama de Fluxo de D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agem 1" descr=""/>
          <p:cNvPicPr/>
          <p:nvPr/>
        </p:nvPicPr>
        <p:blipFill>
          <a:blip r:embed="rId2"/>
          <a:stretch/>
        </p:blipFill>
        <p:spPr>
          <a:xfrm>
            <a:off x="1157400" y="2422440"/>
            <a:ext cx="6829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AEBB-14BB-40AE-859E-2F5DF4A8591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36" name="CaixaDeTexto 7"/>
          <p:cNvSpPr/>
          <p:nvPr/>
        </p:nvSpPr>
        <p:spPr>
          <a:xfrm>
            <a:off x="514440" y="5357880"/>
            <a:ext cx="698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4: Mural da Institui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m 2" descr=""/>
          <p:cNvPicPr/>
          <p:nvPr/>
        </p:nvPicPr>
        <p:blipFill>
          <a:blip r:embed="rId2"/>
          <a:stretch/>
        </p:blipFill>
        <p:spPr>
          <a:xfrm>
            <a:off x="539640" y="1596960"/>
            <a:ext cx="79376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E1BA-CB54-4C63-98B1-BF4E4C1E8B1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755640" y="179712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7"/>
          <p:cNvSpPr/>
          <p:nvPr/>
        </p:nvSpPr>
        <p:spPr>
          <a:xfrm>
            <a:off x="1079640" y="2527200"/>
            <a:ext cx="69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lunos se mostraram interessados no método apresentado, não que o método atual seja ineficaz, porém a proposta apresentada é para automatização da atividade já exercida e aprimorar o desempenho da me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D117-FE75-4CB6-B48C-30C4A6E8826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8"/>
          <p:cNvSpPr/>
          <p:nvPr/>
        </p:nvSpPr>
        <p:spPr>
          <a:xfrm>
            <a:off x="900000" y="2341440"/>
            <a:ext cx="72723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ante de um universo comunicativo de oportunidades, o crescimento da interação da entidade para com o aluno deve ser a maior possível, mas por vezes existem falhas na comunicação desses dois pol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900000" y="1557360"/>
            <a:ext cx="74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JUSTIFICATIVA  DA PESQUI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77AD-D1F2-427B-A173-7C66E49534A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46" name="CaixaDeTexto 7"/>
          <p:cNvSpPr/>
          <p:nvPr/>
        </p:nvSpPr>
        <p:spPr>
          <a:xfrm>
            <a:off x="1116000" y="2349360"/>
            <a:ext cx="6985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primeira regra de qualquer tecnologia utilizada nos negócios é que a automação aplicada a uma operação eficiente aumentará a eficiência. A segunda é que a automação aplicada a uma operação ineficiente aumentará a ineficiênci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ill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E651-0000-4DF1-9D33-166D4FE245BF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9"/>
          <p:cNvSpPr/>
          <p:nvPr/>
        </p:nvSpPr>
        <p:spPr>
          <a:xfrm>
            <a:off x="1116000" y="1415880"/>
            <a:ext cx="727236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oposta deste trabalho visa apresentar um estudo completo de conceitos, definições e benefícios do uso das ferramentas tecnológicas para auxílio na ligação entre os alunos e a faculdade. O uso do software pode diversas vezes substituir o uso de recursos obsoletos inovando uma determinada área de atu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127E-FB4D-4B96-AA56-030A3EF4CFF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9"/>
          <p:cNvSpPr/>
          <p:nvPr/>
        </p:nvSpPr>
        <p:spPr>
          <a:xfrm>
            <a:off x="1116000" y="2492280"/>
            <a:ext cx="7272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omo a tecnologia pode usar suas ferramentas a favor da comunicaçã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59280" y="1795320"/>
            <a:ext cx="29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1402-1B94-43E6-BBE6-8B0BC86008F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65" name="CaixaDeTexto 9"/>
          <p:cNvSpPr/>
          <p:nvPr/>
        </p:nvSpPr>
        <p:spPr>
          <a:xfrm>
            <a:off x="755640" y="2479680"/>
            <a:ext cx="727236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esenvolver um software que use a tecnologia como ferramenta na publicidade para facilitar a comunicação entre a instituição e o aluno, com a finalidade de apresentar o benefício da diminuição na impressão de cartazes, gastos financeiros e poluição visual na faculdade Vale do Cricaré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771640" y="1611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9C10-1423-42BE-BC87-2748B572D36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9"/>
          <p:cNvSpPr/>
          <p:nvPr/>
        </p:nvSpPr>
        <p:spPr>
          <a:xfrm>
            <a:off x="611280" y="29527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a aprovação do público alvo em relação ao softw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a preferência dos alunos pelos métodos apresen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r se o método auxiliará de fato o aluno na obten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ões a respeito do seu curso e da institu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340000" y="15876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8431-B67A-4363-B3B8-52DE77A41B5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684360" y="1844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HECENDO A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7"/>
          <p:cNvSpPr/>
          <p:nvPr/>
        </p:nvSpPr>
        <p:spPr>
          <a:xfrm>
            <a:off x="1187280" y="2774880"/>
            <a:ext cx="6913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ceito de Tecnolog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corrência de sua histór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a importância na socied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D813-32C8-4E75-A413-92C299F04E24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971640" y="184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UBLICIDADE X POLUIÇÃO 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7"/>
          <p:cNvSpPr/>
          <p:nvPr/>
        </p:nvSpPr>
        <p:spPr>
          <a:xfrm>
            <a:off x="1187280" y="2774880"/>
            <a:ext cx="6913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ceito de publicidad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levância da publicidade na sociedad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luição visual no âmbito da comun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7A61-72D6-4BA4-8078-1C38368F324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971640" y="1844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TECNOLOGIA COMO FERRAMENTA NA PUBLI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7"/>
          <p:cNvSpPr/>
          <p:nvPr/>
        </p:nvSpPr>
        <p:spPr>
          <a:xfrm>
            <a:off x="1114560" y="3232080"/>
            <a:ext cx="6913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ibilidades do uso das ferramentas tecnológicas a serviço da publicidad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rketing digit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ficácia do méto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05:55Z</dcterms:created>
  <dc:creator>Athos M.</dc:creator>
  <dc:description/>
  <dc:language>en-US</dc:language>
  <cp:lastModifiedBy>JLUIS</cp:lastModifiedBy>
  <dcterms:modified xsi:type="dcterms:W3CDTF">2019-01-09T17:38:35Z</dcterms:modified>
  <cp:revision>290</cp:revision>
  <dc:subject/>
  <dc:title>Slide 1</dc:title>
</cp:coreProperties>
</file>