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BC7-5B4F-46C8-968F-B79ACBD1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399-A309-45D5-AC12-E65088C7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F03-95B2-4468-9380-2D9F2C60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863-7A9D-412D-8A92-8A7759DE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C79-CC02-46DF-BABE-4AD0335D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2E1-8A8F-4C6F-A98E-99BA2C93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877-88A6-4DF0-960F-209CBDCD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B36-15DB-4892-BBF7-CD542377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B01-81CC-416E-851E-BFFC58EB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5AC-A607-40C3-9C45-ACF3D34E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B7E-31C0-4EBE-AC2F-4E6AD4C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7BE-7DFC-4409-9761-29239498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7030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4FBC-951F-4DE4-BAEB-6E45F90A3B26}" type="datetime">
              <a:rPr b="0" lang="pt-BR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887A-A65A-4725-8016-6ED23069E032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52EA-28B8-4647-9CA5-0B40054CF64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44" name="CaixaDeTexto 8"/>
          <p:cNvSpPr/>
          <p:nvPr/>
        </p:nvSpPr>
        <p:spPr>
          <a:xfrm>
            <a:off x="611280" y="148428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DA – CENTRAL DE AVISOS: SOFTWARE PARA APLICAÇÃO DA TECNOLOGIA NA PUBLICIDADE UM ESTUDO DE CASO NA FACULDADE VALE DO CRICA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067280" y="479736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RENDA LACERDA RO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HÁBATA DOS SANTOS A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79280" y="5877000"/>
            <a:ext cx="511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ientador: Douglas de Oliveira Ty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8" descr=""/>
          <p:cNvPicPr/>
          <p:nvPr/>
        </p:nvPicPr>
        <p:blipFill>
          <a:blip r:embed="rId2"/>
          <a:stretch/>
        </p:blipFill>
        <p:spPr>
          <a:xfrm>
            <a:off x="6545160" y="444600"/>
            <a:ext cx="21495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2A31-0E23-4771-94B7-CF1037EA413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2197080" y="1484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ixaDeTexto 7"/>
          <p:cNvSpPr/>
          <p:nvPr/>
        </p:nvSpPr>
        <p:spPr>
          <a:xfrm>
            <a:off x="1187280" y="2492280"/>
            <a:ext cx="69138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tou-se a necessidade de pesquisar em materiais já existentes: livros e artigos científicos e fazer levantamento de dados através de questionário como base para análise do uso da tecnologia a serviço da publicidade e a partir destes dados entender se há viabilidade para tal apl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F9C4-928C-4686-9B08-8826FFB7F17C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971640" y="170028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7"/>
          <p:cNvSpPr/>
          <p:nvPr/>
        </p:nvSpPr>
        <p:spPr>
          <a:xfrm>
            <a:off x="1116000" y="2565360"/>
            <a:ext cx="6985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ocal da pesquisa: Faculdade Vale do Cricaré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ostra: 68 alun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íodo da Pesquisa: 17 a 22 de Junho de 20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25F-2365-461C-A437-220E95A825E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971640" y="1413000"/>
            <a:ext cx="763272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ICAR A APROVAÇÃO DO PÚBLICO ALVO EM RELAÇÃO AO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o analisar os dados obtidos através da pesquisa claramente o software obteve uma aprovação em relação ao público alvo com índice de 86,8%. O software foi desenvolvido pensando no conforto do usuário, na agilidade para o acesso da informação e aprimoramento da comunicação acadê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a pergunta foi elaborada para analisar a aceitação por parte dos alunos, público alvo, na criação do site CD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5. Você acessaria este site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7"/>
          <p:cNvSpPr/>
          <p:nvPr/>
        </p:nvSpPr>
        <p:spPr>
          <a:xfrm>
            <a:off x="1236600" y="5878440"/>
            <a:ext cx="6985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5: Análise de aceitação da criação do site CD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m 1" descr=""/>
          <p:cNvPicPr/>
          <p:nvPr/>
        </p:nvPicPr>
        <p:blipFill>
          <a:blip r:embed="rId2"/>
          <a:stretch/>
        </p:blipFill>
        <p:spPr>
          <a:xfrm>
            <a:off x="1236600" y="3646440"/>
            <a:ext cx="3933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3022-5F23-4CF7-B6EC-9205011D216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900000" y="1268280"/>
            <a:ext cx="76327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ICAR A PREFERÊNCIA DOS ALUNOS PELOS MÉTODOS APRESEN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 74,6% dos votos, ainda que atualmente o maior meio de obtenção das informações seja o mural de avisos, no caso da implementação do site a preferência dos alunos segundo a pesquisa realizada seria justamente o conteúdo online, você pode se perguntar pelo site da instituição, mas este software é distinto e tem um objetivo mais específico no âmbito informativo e comunic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7. Se houvesse oportunidade de escolher entre avisos em impressos no mural e avisos online, por qual você optaria?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ixaDeTexto 7"/>
          <p:cNvSpPr/>
          <p:nvPr/>
        </p:nvSpPr>
        <p:spPr>
          <a:xfrm>
            <a:off x="1079640" y="6056280"/>
            <a:ext cx="698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7 - Análise de preferência dos alunos quanto ao meio nos quais os avisos serão disponibilizad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2"/>
          <a:stretch/>
        </p:blipFill>
        <p:spPr>
          <a:xfrm>
            <a:off x="1258920" y="3976560"/>
            <a:ext cx="429876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AF75-11F4-493D-9B26-6E381EC4B4DF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971640" y="1279440"/>
            <a:ext cx="763272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RIFICAR SE O MÉTODO AUXILIARÁ DE FATO O ALUNO NA OBTENÇÃO DE INFORMAÇÕES A RESPEITO DO SEU CURSO E DA INSTITUIÇÃ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89,6% dos entrevistados diz que a data de expiração para avisos antigos facilitará na obtenção de informações, pois com tal recurso avisos atuais não irão se misturar com os mais velhos causando acúmulos de inform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9. Um site que possui data de expiração para avisos antigos facilitaria na sua obtenção de informação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ixaDeTexto 7"/>
          <p:cNvSpPr/>
          <p:nvPr/>
        </p:nvSpPr>
        <p:spPr>
          <a:xfrm>
            <a:off x="955800" y="5862600"/>
            <a:ext cx="6984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9: Análise da aprovação da funcionalidade apresentada no site a respeito da expiração de avis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ntigo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m 1" descr=""/>
          <p:cNvPicPr/>
          <p:nvPr/>
        </p:nvPicPr>
        <p:blipFill>
          <a:blip r:embed="rId2"/>
          <a:stretch/>
        </p:blipFill>
        <p:spPr>
          <a:xfrm>
            <a:off x="971640" y="3489480"/>
            <a:ext cx="42130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2835-118F-451B-9FAA-DCAE5848419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IAGRAMA DE ESTUDO DE CA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ixaDeTexto 7"/>
          <p:cNvSpPr/>
          <p:nvPr/>
        </p:nvSpPr>
        <p:spPr>
          <a:xfrm>
            <a:off x="1295280" y="5489640"/>
            <a:ext cx="698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1: Diagrama de Caso de U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m 1" descr=""/>
          <p:cNvPicPr/>
          <p:nvPr/>
        </p:nvPicPr>
        <p:blipFill>
          <a:blip r:embed="rId2"/>
          <a:stretch/>
        </p:blipFill>
        <p:spPr>
          <a:xfrm>
            <a:off x="1857240" y="2208240"/>
            <a:ext cx="5761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14D-3072-4CD9-98C9-F47B6482BDB4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971640" y="141300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IAGRAMA DE ENTIDADES DE RELACIONAM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7"/>
          <p:cNvSpPr/>
          <p:nvPr/>
        </p:nvSpPr>
        <p:spPr>
          <a:xfrm>
            <a:off x="1476360" y="5916600"/>
            <a:ext cx="698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2: Diagrama de Entidades de Relacionament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2411280" y="2479680"/>
            <a:ext cx="45100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DC8B-D9AD-4FCD-B748-7CDCB1EFA7B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IAGRAMA DE FLUXO DE DAD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7"/>
          <p:cNvSpPr/>
          <p:nvPr/>
        </p:nvSpPr>
        <p:spPr>
          <a:xfrm>
            <a:off x="1157400" y="5340240"/>
            <a:ext cx="698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3: Diagrama de Fluxo de D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agem 1" descr=""/>
          <p:cNvPicPr/>
          <p:nvPr/>
        </p:nvPicPr>
        <p:blipFill>
          <a:blip r:embed="rId2"/>
          <a:stretch/>
        </p:blipFill>
        <p:spPr>
          <a:xfrm>
            <a:off x="1157400" y="2422440"/>
            <a:ext cx="6829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E565-ECA2-4AE8-B68E-460679DFE24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36" name="CaixaDeTexto 7"/>
          <p:cNvSpPr/>
          <p:nvPr/>
        </p:nvSpPr>
        <p:spPr>
          <a:xfrm>
            <a:off x="514440" y="5357880"/>
            <a:ext cx="6985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4: Mural da Institui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Própria 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m 2" descr=""/>
          <p:cNvPicPr/>
          <p:nvPr/>
        </p:nvPicPr>
        <p:blipFill>
          <a:blip r:embed="rId2"/>
          <a:stretch/>
        </p:blipFill>
        <p:spPr>
          <a:xfrm>
            <a:off x="539640" y="1596960"/>
            <a:ext cx="79376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35F3-30D0-40FF-A9E6-90C150E855D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755640" y="179712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7"/>
          <p:cNvSpPr/>
          <p:nvPr/>
        </p:nvSpPr>
        <p:spPr>
          <a:xfrm>
            <a:off x="1079640" y="2527200"/>
            <a:ext cx="69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alunos se mostraram interessados no método apresentado, não que o método atual seja ineficaz, porém a proposta apresentada é para automatização da atividade já exercida e aprimorar o desempenho da me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BD68-E482-439B-B03F-82F7F5DB01A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8"/>
          <p:cNvSpPr/>
          <p:nvPr/>
        </p:nvSpPr>
        <p:spPr>
          <a:xfrm>
            <a:off x="900000" y="2341440"/>
            <a:ext cx="72723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ante de um universo comunicativo de oportunidades, o crescimento da interação da entidade para com o aluno deve ser a maior possível, mas por vezes existem falhas na comunicação desses dois pol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900000" y="1557360"/>
            <a:ext cx="74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JUSTIFICATIVA  DA PESQUI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58D8-3BDF-4088-8823-53499A2019A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CaixaDeTexto 7"/>
          <p:cNvSpPr/>
          <p:nvPr/>
        </p:nvSpPr>
        <p:spPr>
          <a:xfrm>
            <a:off x="1116000" y="2349360"/>
            <a:ext cx="6985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primeira regra de qualquer tecnologia utilizada nos negócios é que a automação aplicada a uma operação eficiente aumentará a eficiência. A segunda é que a automação aplicada a uma operação ineficiente aumentará a ineficiência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ll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FDB9-6A7E-4FA0-8F96-BCD4F379BD48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56" name="CaixaDeTexto 9"/>
          <p:cNvSpPr/>
          <p:nvPr/>
        </p:nvSpPr>
        <p:spPr>
          <a:xfrm>
            <a:off x="1116000" y="1415880"/>
            <a:ext cx="72723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posta deste trabalho visa apresentar um estudo completo de conceitos, definições e benefícios do uso das ferramentas tecnológicas para auxílio na ligação entre os alunos e a faculdade. O uso do software pode diversas vezes substituir o uso de recursos obsoletos inovando uma determinada área de atu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7814-B7EE-4BE7-B4D5-DCA6E04F5727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9"/>
          <p:cNvSpPr/>
          <p:nvPr/>
        </p:nvSpPr>
        <p:spPr>
          <a:xfrm>
            <a:off x="1116000" y="2492280"/>
            <a:ext cx="7272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omo a tecnologia pode usar suas ferramentas a favor da comunicaçã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59280" y="1795320"/>
            <a:ext cx="29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0578-B333-4233-8A01-8739D744EF2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65" name="CaixaDeTexto 9"/>
          <p:cNvSpPr/>
          <p:nvPr/>
        </p:nvSpPr>
        <p:spPr>
          <a:xfrm>
            <a:off x="755640" y="2479680"/>
            <a:ext cx="727236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esenvolver um software que use a tecnologia como ferramenta na publicidade para facilitar a comunicação entre a instituição e o aluno, com a finalidade de apresentar o benefício da diminuição na impressão de cartazes, gastos financeiros e poluição visual na faculdade Vale do Cricaré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771640" y="1611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F801-91A9-4588-B58C-55C6579BAF70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70" name="CaixaDeTexto 9"/>
          <p:cNvSpPr/>
          <p:nvPr/>
        </p:nvSpPr>
        <p:spPr>
          <a:xfrm>
            <a:off x="611280" y="29527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a aprovação do público alvo em relação ao softw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a preferência dos alunos pelos métodos apresen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r se o método auxiliará de fato o aluno na obten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ões a respeito do seu curso e da institu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2340000" y="15876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E8E3-2018-4C16-AB4C-16A42CA5180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684360" y="184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HECENDO A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7"/>
          <p:cNvSpPr/>
          <p:nvPr/>
        </p:nvSpPr>
        <p:spPr>
          <a:xfrm>
            <a:off x="1187280" y="2774880"/>
            <a:ext cx="69138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ceito de Tecnolog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corrência de sua histór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a importância na socied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7A63-967B-473B-8494-2F3EB21DB6D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971640" y="18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UBLICIDADE X POLUIÇÃO 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ixaDeTexto 7"/>
          <p:cNvSpPr/>
          <p:nvPr/>
        </p:nvSpPr>
        <p:spPr>
          <a:xfrm>
            <a:off x="1187280" y="2774880"/>
            <a:ext cx="6913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ceito de publicidad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levância da publicidade na sociedad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luição visual no âmbito da comun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9824-AC1A-4D53-8794-6D10692F4F3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971640" y="1844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 TECNOLOGIA COMO FERRAMENTA NA PUBLI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7"/>
          <p:cNvSpPr/>
          <p:nvPr/>
        </p:nvSpPr>
        <p:spPr>
          <a:xfrm>
            <a:off x="1114560" y="3232080"/>
            <a:ext cx="6913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ibilidades do uso das ferramentas tecnológicas a serviço da publicidad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rketing digit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ficácia do méto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05:55Z</dcterms:created>
  <dc:creator>Athos M.</dc:creator>
  <dc:description/>
  <dc:language>en-US</dc:language>
  <cp:lastModifiedBy>JLUIS</cp:lastModifiedBy>
  <dcterms:modified xsi:type="dcterms:W3CDTF">2019-01-09T17:38:35Z</dcterms:modified>
  <cp:revision>290</cp:revision>
  <dc:subject/>
  <dc:title>Slide 1</dc:title>
</cp:coreProperties>
</file>