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AE7-28BA-483E-B8A2-DED36D92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BDB-8979-4467-AF79-DAF0DC9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919-79D0-4476-BD11-9BB518C7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818-CE19-4A65-A349-A4810672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0D5-9B8E-4556-B492-B2B7C0C8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7A9-2C15-4AAF-B755-D0D07CD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52D-BEA4-4C8E-88C6-24E7D8D5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DD2-E738-4E8A-A7C3-5447EBDF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A01-9E39-4479-B540-EC705B1B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6E2-34EC-48AC-9DCE-14CE054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C57-1626-434E-B4AE-1C6EE89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C50-78F3-45EF-8777-291D3A3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17375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3DC-DBDA-4FD4-86F3-9F9C8A708BF1}" type="datetime">
              <a:rPr b="0" lang="pt-BR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2190-2417-451A-8487-366B50FC6EDE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D1B-2AAC-4681-A8D2-1762C154DD4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11280" y="1484280"/>
            <a:ext cx="78483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APLICAÇÃO DAS ESTRATÉGI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DE MARKETING NO PROCESSO DE MUDANÇA DE MARCA: UM ESTUDO DE CASO NA EFETIVA SERVIÇOS NO MUNICÍPIO DE SÃO MATEU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067280" y="4797360"/>
            <a:ext cx="46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UGLAS CARREIRO DA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TH DA SILVA PAS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RAIA CASTRO VI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79280" y="5877000"/>
            <a:ext cx="511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or: Nilvans Fernandes Bo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E4CD-0A74-4764-A731-1D3D9D1F2B5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971640" y="184464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3 – CARACTERIZAÇÃO DO ESTUDO DE CA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ixaDeTexto 7"/>
          <p:cNvSpPr/>
          <p:nvPr/>
        </p:nvSpPr>
        <p:spPr>
          <a:xfrm>
            <a:off x="1187280" y="2774880"/>
            <a:ext cx="691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ção da organiz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7" descr="C:\Users\Douglas\Desktop\PROJETO FACULDADE\Logo Marca Efetiva original 1.png"/>
          <p:cNvPicPr/>
          <p:nvPr/>
        </p:nvPicPr>
        <p:blipFill>
          <a:blip r:embed="rId3"/>
          <a:stretch/>
        </p:blipFill>
        <p:spPr>
          <a:xfrm>
            <a:off x="4643280" y="3436920"/>
            <a:ext cx="388944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Imagem 8" descr="C:\Users\Douglas\Desktop\PROJETO FACULDADE\logo evidencia serviços.jpg"/>
          <p:cNvPicPr/>
          <p:nvPr/>
        </p:nvPicPr>
        <p:blipFill>
          <a:blip r:embed="rId4"/>
          <a:stretch/>
        </p:blipFill>
        <p:spPr>
          <a:xfrm>
            <a:off x="611280" y="3429000"/>
            <a:ext cx="388764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CaixaDeTexto 7"/>
          <p:cNvSpPr/>
          <p:nvPr/>
        </p:nvSpPr>
        <p:spPr>
          <a:xfrm>
            <a:off x="611280" y="5732640"/>
            <a:ext cx="3889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05: Logomarca da empresa Evidência Serviç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Fornecida pela Empre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4643280" y="5732640"/>
            <a:ext cx="3889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07: Logomarca da empresa Efetiva Serviç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Fornecida pela Empre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B254-74BC-4EAE-AED7-88199555D1A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971640" y="1700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7"/>
          <p:cNvSpPr/>
          <p:nvPr/>
        </p:nvSpPr>
        <p:spPr>
          <a:xfrm>
            <a:off x="1116000" y="2565360"/>
            <a:ext cx="6985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niverso: 324 clientes desde o 1º Semestre de 201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ostra: 30 clientes / 9,25% do univers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íodo da Pesquisa: 28 de Maio a 26 de Junho de 2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0AD7-3662-4491-825D-E5F46A15BD1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7"/>
          <p:cNvSpPr/>
          <p:nvPr/>
        </p:nvSpPr>
        <p:spPr>
          <a:xfrm>
            <a:off x="1116000" y="4581360"/>
            <a:ext cx="6985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4: VISÃO DO ENTREVISTADO PELA IDENTIFICAÇÃO DA EMPRESA COMO EFETIVA NO MOMENTO DA PESQUI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áfico 7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912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074C-F29A-4BD2-BD29-C214EA92535F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7"/>
          <p:cNvSpPr/>
          <p:nvPr/>
        </p:nvSpPr>
        <p:spPr>
          <a:xfrm>
            <a:off x="1116000" y="4581360"/>
            <a:ext cx="698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7: AVALIA QUAL RAZÃO FOI INICIALMENTE APRESENTADA AO CLIENTE AO SABER DA EXISTÊNCIA DA EMPRE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áfico 8" descr=""/>
          <p:cNvPicPr/>
          <p:nvPr/>
        </p:nvPicPr>
        <p:blipFill>
          <a:blip r:embed="rId3"/>
          <a:stretch/>
        </p:blipFill>
        <p:spPr>
          <a:xfrm>
            <a:off x="1182600" y="2200320"/>
            <a:ext cx="6632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033-C303-4705-8053-269B884610F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7"/>
          <p:cNvSpPr/>
          <p:nvPr/>
        </p:nvSpPr>
        <p:spPr>
          <a:xfrm>
            <a:off x="1116000" y="4581360"/>
            <a:ext cx="69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5: COMO O CLIENTE SOUBE DA EXISTÊNCIA DA EFETIVA SERVIÇ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áfico 9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708-552B-4B00-903B-04A0C8A302D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7"/>
          <p:cNvSpPr/>
          <p:nvPr/>
        </p:nvSpPr>
        <p:spPr>
          <a:xfrm>
            <a:off x="1116000" y="4581360"/>
            <a:ext cx="69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12: AVALIA A EMPRESA EFETIVA SERVIÇOS QUANTO AO ATEND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áfico 8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C6D5-D406-4B1E-81EA-56B7D0E171F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7"/>
          <p:cNvSpPr/>
          <p:nvPr/>
        </p:nvSpPr>
        <p:spPr>
          <a:xfrm>
            <a:off x="1116000" y="4581360"/>
            <a:ext cx="69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9: AVALIA SE OS CLIENTES RECOMENDARIAM A EFETIVA PARA OUTRAS PESSO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áfico 9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0E4-4433-4653-A302-B87F38792A9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971640" y="1700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7"/>
          <p:cNvSpPr/>
          <p:nvPr/>
        </p:nvSpPr>
        <p:spPr>
          <a:xfrm>
            <a:off x="1116000" y="2565360"/>
            <a:ext cx="6985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ipóte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milaridades nas ações tomadas pela empre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quadramento das Estratégias à realidade da organ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524-E082-4619-8CB8-41A220BDC01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7"/>
          <p:cNvSpPr/>
          <p:nvPr/>
        </p:nvSpPr>
        <p:spPr>
          <a:xfrm>
            <a:off x="1116000" y="2349360"/>
            <a:ext cx="69850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rcas não são apenas aquilo que a empresa vende, pelo contrário, elas representam o que a empresa faz e, mais significativamente, o que a empresa realmente é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otler e Pfoer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CFD-8E7F-4FB2-9AD7-11A4E473432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8"/>
          <p:cNvSpPr/>
          <p:nvPr/>
        </p:nvSpPr>
        <p:spPr>
          <a:xfrm>
            <a:off x="900000" y="2341440"/>
            <a:ext cx="727236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-se como fonte propulsora para realização desta pesquisa identificar as definições e ferramentas necessárias às decisões de manutenção e/ou alteração da marca da organização Efetiva Serviços, baseando-se em princípios do Marketing Moderno voltados às estratégias ligadas diretamente a Gestão de Bran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900000" y="155736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JUSTIFICATIVA  DA PESQU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889E-1574-47C1-9996-85C757623AF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9"/>
          <p:cNvSpPr/>
          <p:nvPr/>
        </p:nvSpPr>
        <p:spPr>
          <a:xfrm>
            <a:off x="1187280" y="1700280"/>
            <a:ext cx="72723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licação das ferramentas do marketing no processo de mudança de marca e gestão, com o objetivo de minimizar os impactos resultantes desse processo. Estudo de caso na Efetiva Serviç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CEA-2D49-4648-AA66-647ABEE8B45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9"/>
          <p:cNvSpPr/>
          <p:nvPr/>
        </p:nvSpPr>
        <p:spPr>
          <a:xfrm>
            <a:off x="1116000" y="2492280"/>
            <a:ext cx="727236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mo as estratégias de marketing podem influenciar a mudança de marca da empresa Efetiva Serviços, diminuindo possíveis impactos negativos resultantes dessa alteraçã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059280" y="1795320"/>
            <a:ext cx="29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4E2-0CC5-45B9-A6A2-2C41A375038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9"/>
          <p:cNvSpPr/>
          <p:nvPr/>
        </p:nvSpPr>
        <p:spPr>
          <a:xfrm>
            <a:off x="755640" y="2479680"/>
            <a:ext cx="727236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valiar como as ferramentas do marketing podem influenciar diretamente numa aplicação de alteração de marca e determinar o posicionamento mercadológico da empresa após esta mudanç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411280" y="1584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D360-6EC9-423D-8702-FEBEC70C60A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9"/>
          <p:cNvSpPr/>
          <p:nvPr/>
        </p:nvSpPr>
        <p:spPr>
          <a:xfrm>
            <a:off x="395280" y="1844640"/>
            <a:ext cx="83534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o sistema de marketing atual da empresa Efetiva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como a estratégia atual influenciou e está influenciando na imagem da empre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uturar informações que possam ser base para identificar o posicionamento da marca no merc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informações obtidas a fim de utilizá-las para a composição de um parecer sobre os impactos das estratégias utiliz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r as ferramentas do marketing que melhor se enquadram a realidade da organiz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idar a aplicabilidade das ferramentas diante da percepção ex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24000" y="1341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51B-5C35-40B6-B28C-7AD4C69FE2B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2268360" y="1484280"/>
            <a:ext cx="49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ODOLOGIA E FUDAMENTAÇÃO TE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1187280" y="2492280"/>
            <a:ext cx="6913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tura de bibliografias acadêmicas e livros de marketing, direcionando a pesquisa para as áreas de marketing e marcas e ainda estudo de caso na Efetiva Serviços. Sendo utilizado como bibliografia base para a pesquisa, o livro de Kotler e tendo como apoio, autores como Keller, Cobra, Machado, Honora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54B9-D193-43CA-BBDE-EB58556D5BC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684360" y="184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PÍTULO 1 – CONHECENDO O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7"/>
          <p:cNvSpPr/>
          <p:nvPr/>
        </p:nvSpPr>
        <p:spPr>
          <a:xfrm>
            <a:off x="1187280" y="2774880"/>
            <a:ext cx="6913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ortâncias do Market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s, tendências e tarefas fundament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s de Mark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4C3E-BE33-44F8-B704-46F30A86A1B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971640" y="184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PÍTULO 2 – MARCA: ORIGEM E CONC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7"/>
          <p:cNvSpPr/>
          <p:nvPr/>
        </p:nvSpPr>
        <p:spPr>
          <a:xfrm>
            <a:off x="1187280" y="2774880"/>
            <a:ext cx="6913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rand Equity: Valor da Mar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mação de Fidelidade à Mar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ratégias de Mar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05:55Z</dcterms:created>
  <dc:creator>Athos M.</dc:creator>
  <dc:description/>
  <dc:language>en-US</dc:language>
  <cp:lastModifiedBy>JLUIS</cp:lastModifiedBy>
  <dcterms:modified xsi:type="dcterms:W3CDTF">2019-01-09T17:37:54Z</dcterms:modified>
  <cp:revision>262</cp:revision>
  <dc:subject/>
  <dc:title>Slide 1</dc:title>
</cp:coreProperties>
</file>